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gif" ContentType="image/gif"/>
  <Override PartName="/ppt/media/image14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29.gif" ContentType="image/gif"/>
  <Override PartName="/ppt/media/image1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6.png" ContentType="image/png"/>
  <Override PartName="/ppt/media/image42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9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5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1D0-C1AC-440D-9A54-F655EDD2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9EF-639C-4CAB-90BD-AEF2010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B15C0-87E8-4FB5-99C9-23D8D745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050CF-CA91-4CEE-B7FB-8B49370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878EC-4D9E-425F-B6C5-2963F0CB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46C10-B154-497D-A91E-359576C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2AD9-BD43-4089-80B1-5721F1A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6AEB0-6282-45AD-84EA-6CDDF69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59DF-B397-4338-98B4-02A0DCF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58E7C-5DED-448D-A91B-94CCB0E0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5CA9D-2E2B-42BB-A206-19D27805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15C2C-3EAC-4AEC-B7C4-CB06517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827-6F50-43F0-914F-46DD4BBC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6B88-C59A-45D5-A97C-4750216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4ED33-9FB3-41A8-8036-8A4AFBE4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71FF4-0644-4C55-AD9D-0A90ABD1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6A38F-B6AD-4096-87E0-9DBF8CDD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221B9-98CB-4B18-B29F-C183F8DF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0BFDD-193B-474D-9BB9-407CD105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A3C33-EA23-46F9-BB20-60CBC6B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8AAC7-1BB9-4EC1-BB41-5B160FE4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DBC38-1001-44CA-8CC4-3F65FFFC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3FA84-F1AD-4C30-8838-EDF6B5F9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12D-EF4C-4E26-BADD-613B8FC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D6D17-D5E7-414B-A3BE-3E3047A0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DC92F-B2B2-46A2-9143-D69D105F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B785C-C57B-4753-8AFD-21B78B9C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274EC-05D3-4A9F-B3A4-F725F119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1ABE3-E6AA-4C09-BAE4-0F74247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C89F-9E25-452C-BA3F-E6A784D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2B77E-E403-4FB0-97E8-C6F7272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9B437-B33F-4A77-A79A-58186C2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6DA1A-1C2C-434E-8523-8EDFBC8C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47FC4-E9C6-455E-A2BA-151B74E5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39FA-B249-4AB7-A431-BC2E959B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1C82-0F09-4466-9008-111F3FFA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D14C3-D8B2-40D2-A54C-37796B18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0B3DE-56A4-4F0F-851F-A2A0E6E5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AF4D5B-AC58-440A-B9EF-70FE6181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64D84A-D022-4D26-B8DB-B2A605A5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9981AE-0608-465E-99CB-A1C5440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7AB001-C11A-4E99-BAAC-496F51DF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AA3602-5BA3-48D2-95EE-5675B10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10F4AC-2849-4E5A-8DAF-182887F2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906FFF-F8B9-4128-92E0-A7D4C12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926DE-30CC-4348-BAB9-A4582435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76BC99-454F-406F-82C9-54AC3480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974266-8E89-4849-8B50-0C5A30B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CA61EF-2BEF-44FA-9C47-1040B9F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FEEC2B-C178-4DFC-A552-3FB18DFB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EC5610-AFAB-423A-8EB0-9FECEEAE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648CC-E549-449A-98AB-15E22DB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C6430-4E8F-4252-8204-B1C09EC3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2A381-E2EB-4B87-A300-42E0DC16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BFAB0-F018-4236-972D-CA3021F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38085-14CC-4B18-A997-8780567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E8F-ADB8-4DF7-B894-1B5C666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E5F92-20D1-43BD-BD3E-5F30CC2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C91BB-EE9B-4DBF-B0CA-D202D38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63089-75F0-4DF1-8767-7859C65B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2A34-CF39-4494-AA3F-8ED5150E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A3310-59DF-44F4-9D43-E8BE54E5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0EA6-FED9-4FE1-A870-9271EC45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7E22-9459-40C2-923F-413EF8DC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FC13-4EA2-4A28-BA8D-98E1E9B9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77F6-BCCE-458F-9652-4A7D073F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1559-7E43-4650-A491-637875D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EBE-DC74-4B60-935A-934438B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17E3-EAEA-4A2E-B19E-7093BED4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B6C5-8339-4CC7-8EE0-074E59C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7A78-30C0-4137-A11C-91223BD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0B84-B2FF-4A20-B740-B9A3512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C754-2065-4824-990E-4CF86A3A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6A98-7350-4769-BA20-5BA1614E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53EA-1FE0-4A4C-A437-6A1F25CC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638E-9061-45C2-8D60-0C3BE9A6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5C39-3B1E-4D76-89DB-B9099B31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384B-9F13-471E-B9FE-BB7FE1A8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AB6-21B5-4DB2-9AF5-5CEFAB12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27DF-72CA-4557-AE0B-1C42CDF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FF5B-4BF7-4229-8CC4-17DD7B0E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AEA9-C72E-42CD-89D4-5346026B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94D6-12AC-4907-992A-64B8535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608C-85E8-4BCC-80E9-BFBFC23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0C6F-F7B9-465A-AD64-F1AEC9F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9177-41F7-4BFC-B35E-4B71C02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E507-07C3-4ACE-86BE-EDD53C9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9D42-B1C8-4780-91F1-D8E1AEC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F315-8869-4F9C-9BCA-8D48005C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078-8930-47F8-82A7-7001052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73B2-2F29-45D5-9949-A654BEF3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4C1F-7E30-4BD3-AE4F-261F05A9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8EF82-407A-47D6-97BD-91C5C57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A845-E97B-49E4-AC3A-83CE2A5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82B3-E85B-464C-8B1B-ACC8B5A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5B35-FE97-47F3-B0F9-7115488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3157-4EF4-4D6A-983C-E58002F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8B359-E9A2-4316-81CE-12076AC4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06D8-99A3-4BD7-8217-2D40694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4AE0-29F7-487B-8BE1-B7602194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5D6-4E37-41A9-9B34-3A48672F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E5EE-59F8-49A6-B0E8-29931FFB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8C64-D821-4F60-99C1-F2E7839E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1104-B540-4024-947A-EEC351A8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AEF1-4717-478A-A9EF-DDE583C4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16F6-C75A-4156-9F87-2D28ABC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E3CC0-8BEC-4B84-AAE5-161E924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DAF8E-608A-4C63-A62D-3B63A83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9DB5-43BB-48DB-A145-4354B2DC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4D14-DD61-4703-9EA3-2A3F348C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A10D-9358-4EE1-878E-30BDF198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66C-113D-4FC7-8486-D97285E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BC433-7717-4C03-A0E6-570309E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07D5-8947-4ADE-A415-B7404130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DE95-5839-4308-BFC0-BA521A28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FA36-D112-4792-9E37-F605A3BE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C6323-34E1-4E5A-AA33-CB203AF9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BCD5-5FE2-40D6-BCA5-FE8B5183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4738-6EC5-437D-ABA1-09556B3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539E5-2A4D-4959-889E-C997B74A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4F2D-51FB-4F3A-81EA-9D4B1843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9F7B-62F2-4A02-9E8E-C7CF8081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B8E-A4C3-4A30-903E-AF1E257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6328-F42E-4D35-80B3-548F6EB4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7867-CE64-4E8E-8507-6C2DF83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4EEFB-34DD-4D43-AAEE-0875284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5CFA5-2AF2-472D-9CD7-580093E0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E32EB-3C79-4B79-B0C7-8DD55727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6B102-C33D-4DB8-84C8-4AED5F1F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BC16C-EEF1-4264-B215-0AA8BBA7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6C19C-53A4-4BE4-B502-C314B23C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28CAC-4CD0-4FFF-8755-40FAAF42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5E434-179E-4A41-B98A-6FDA1FE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E53-1372-4DA5-82C8-8B643C5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2414-5474-4A37-83E8-0A58D36F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3472D-7E71-43FC-9D6D-5D9A87E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C89F6-9C1B-492F-95C9-7245B1CD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9300-CE57-4C8A-BB3E-E6D4351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34178-931B-4930-94F3-35FFAE3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9C1D-D614-40CC-90FE-55BA7704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C536C-9028-4369-BD29-0D3C9C3E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D89C-6E1C-4A88-B7CB-8449AA9D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A37E-4538-40B0-93A8-1D40579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0A73D-C6E6-4462-A5AF-98E97C3D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5078-5027-4874-AE38-C4B6619114B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9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9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0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0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ADC-6660-4E8D-AC14-C0D5BA426D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5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8285-9CCD-4C9A-989E-B8B89F3BCD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3CD6-FB80-44F9-A7E1-0CB2286654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4614-3468-4C67-83EE-2792049AB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328C-8A59-456B-8D9B-F112FF0A7D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8CA-218F-4857-9858-32939E8BF9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92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9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4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9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55FF-1976-4AB3-8739-40AB89528D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013A-3CD4-4241-8198-052E0E481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307-2F64-414F-9905-8EAD489831E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788E-16C5-4405-B6F5-8D49AE5FA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C45-84C1-4CB8-BCF0-37BBF08D51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1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3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3.xm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АОУ СПО «КЕРЧЕНСКИЙ МЕДИЦИНСКИЙ        КОЛЛЕДЖ ИМ Г.К.Петров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высшей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ёдова В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WordArt 4"/>
          <p:cNvSpPr txBox="1"/>
          <p:nvPr/>
        </p:nvSpPr>
        <p:spPr>
          <a:xfrm>
            <a:off x="2362320" y="1676520"/>
            <a:ext cx="42670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езентация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57" name="WordArt 5"/>
          <p:cNvSpPr txBox="1"/>
          <p:nvPr/>
        </p:nvSpPr>
        <p:spPr>
          <a:xfrm>
            <a:off x="1676520" y="3048120"/>
            <a:ext cx="556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ые выпуклые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гранники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7885080" cy="982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Правильный тетраэдр</a:t>
            </a:r>
            <a:endParaRPr b="0" lang="en-US" sz="6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808080" y="1981080"/>
            <a:ext cx="487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180</a:t>
            </a: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º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1523880" y="5317920"/>
            <a:ext cx="120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f127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8" descr="tetrahedron"/>
          <p:cNvPicPr/>
          <p:nvPr/>
        </p:nvPicPr>
        <p:blipFill>
          <a:blip r:embed="rId1"/>
          <a:stretch/>
        </p:blipFill>
        <p:spPr>
          <a:xfrm>
            <a:off x="457200" y="2209680"/>
            <a:ext cx="3429000" cy="2982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   </a:t>
            </a: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Правильный додекаэдр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458880" y="1914120"/>
            <a:ext cx="522756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1371600" y="56379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f127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6" descr="dodecahedron2"/>
          <p:cNvPicPr/>
          <p:nvPr/>
        </p:nvPicPr>
        <p:blipFill>
          <a:blip r:embed="rId1"/>
          <a:stretch/>
        </p:blipFill>
        <p:spPr>
          <a:xfrm>
            <a:off x="380880" y="2209680"/>
            <a:ext cx="3046680" cy="3048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Правильный икосаэдр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3484440" y="1917720"/>
            <a:ext cx="51530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1219320" y="5714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f127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6" descr="icosahedron2"/>
          <p:cNvPicPr/>
          <p:nvPr/>
        </p:nvPicPr>
        <p:blipFill>
          <a:blip r:embed="rId1"/>
          <a:stretch/>
        </p:blipFill>
        <p:spPr>
          <a:xfrm>
            <a:off x="380880" y="2286000"/>
            <a:ext cx="312444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00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Comic Sans MS"/>
              </a:rPr>
              <a:t>Элементы симметрии и формулы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895480" y="1752480"/>
            <a:ext cx="51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200"/>
                </a:solidFill>
                <a:uFillTx/>
                <a:latin typeface="Monotype Corsiva"/>
                <a:hlinkClick r:id="rId1" action="ppaction://hlinksldjump"/>
              </a:rPr>
              <a:t>Октаэдр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200"/>
                </a:solidFill>
                <a:uFillTx/>
                <a:latin typeface="Monotype Corsiva"/>
                <a:hlinkClick r:id="rId2" action="ppaction://hlinksldjump"/>
              </a:rPr>
              <a:t>Тетраэдр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200"/>
                </a:solidFill>
                <a:uFillTx/>
                <a:latin typeface="Monotype Corsiva"/>
                <a:hlinkClick r:id="rId3" action="ppaction://hlinksldjump"/>
              </a:rPr>
              <a:t>Гексаэдр (куб)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200"/>
                </a:solidFill>
                <a:uFillTx/>
                <a:latin typeface="Monotype Corsiva"/>
                <a:hlinkClick r:id="rId4" action="ppaction://hlinksldjump"/>
              </a:rPr>
              <a:t>Додекаэдр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15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00b200"/>
                </a:solidFill>
                <a:uFillTx/>
                <a:latin typeface="Monotype Corsiva"/>
                <a:hlinkClick r:id="rId5" action="ppaction://hlinksldjump"/>
              </a:rPr>
              <a:t>Икосаэдр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3049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    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Verdana"/>
              </a:rPr>
              <a:t>Октаэ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ктаэдр имеет центр симметрии - центр октаэдра,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9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сей симметрии и 9 плоскостей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762120" y="1523880"/>
            <a:ext cx="4647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Радиус описанной сф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Радиус вписанной сф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Площадь поверх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Объем октаэд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61f127"/>
                </a:solidFill>
                <a:latin typeface="Verdana"/>
                <a:ea typeface="Times New Roman"/>
              </a:rPr>
              <a:t>                                                  </a:t>
            </a:r>
            <a:r>
              <a:rPr b="1" lang="ru-RU" sz="1000" spc="-1" strike="noStrike">
                <a:solidFill>
                  <a:srgbClr val="61f127"/>
                </a:solidFill>
                <a:latin typeface="Verdana"/>
                <a:ea typeface="Times New Roman"/>
              </a:rPr>
              <a:t>                          </a:t>
            </a:r>
            <a:r>
              <a:rPr b="1" lang="ru-RU" sz="1400" spc="-1" strike="noStrike">
                <a:solidFill>
                  <a:srgbClr val="61f127"/>
                </a:solidFill>
                <a:latin typeface="Verdana"/>
              </a:rPr>
              <a:t>  </a:t>
            </a:r>
            <a:r>
              <a:rPr b="1" lang="ru-RU" sz="3100" spc="-1" strike="noStrike">
                <a:solidFill>
                  <a:srgbClr val="61f127"/>
                </a:solidFill>
                <a:latin typeface="Verdana"/>
              </a:rPr>
              <a:t> </a:t>
            </a:r>
            <a:r>
              <a:rPr b="1" lang="ru-RU" sz="1400" spc="-1" strike="noStrike">
                <a:solidFill>
                  <a:srgbClr val="61f127"/>
                </a:solidFill>
                <a:latin typeface="Verdana"/>
              </a:rPr>
              <a:t> </a:t>
            </a:r>
            <a:r>
              <a:rPr b="0" lang="ru-RU" sz="1400" spc="-1" strike="noStrike">
                <a:solidFill>
                  <a:srgbClr val="61f127"/>
                </a:solidFill>
                <a:latin typeface="Verdana"/>
              </a:rPr>
              <a:t>           </a:t>
            </a:r>
            <a:r>
              <a:rPr b="0" lang="ru-RU" sz="2100" spc="-1" strike="noStrike">
                <a:solidFill>
                  <a:srgbClr val="61f127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8" descr="octa"/>
          <p:cNvPicPr/>
          <p:nvPr/>
        </p:nvPicPr>
        <p:blipFill>
          <a:blip r:embed="rId1"/>
          <a:stretch/>
        </p:blipFill>
        <p:spPr>
          <a:xfrm>
            <a:off x="7391520" y="4267080"/>
            <a:ext cx="1981080" cy="191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7" name="AutoShape 9">
            <a:hlinkClick r:id="" action="ppaction://hlinkshowjump?jump=previousslide"/>
          </p:cNvPr>
          <p:cNvSpPr/>
          <p:nvPr/>
        </p:nvSpPr>
        <p:spPr>
          <a:xfrm>
            <a:off x="609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0">
            <a:hlinkClick r:id="" action="ppaction://hlinkshowjump?jump=nextslide"/>
          </p:cNvPr>
          <p:cNvSpPr/>
          <p:nvPr/>
        </p:nvSpPr>
        <p:spPr>
          <a:xfrm>
            <a:off x="8305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1269000" y="6521400"/>
            <a:ext cx="161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 Black"/>
                <a:hlinkClick r:id="rId2" action="ppaction://hlinksldjump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12" descr="сова"/>
          <p:cNvPicPr/>
          <p:nvPr/>
        </p:nvPicPr>
        <p:blipFill>
          <a:blip r:embed="rId3"/>
          <a:stretch/>
        </p:blipFill>
        <p:spPr>
          <a:xfrm>
            <a:off x="8143920" y="0"/>
            <a:ext cx="100008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1" name="Object 13"/>
              <p:cNvSpPr txBox="1"/>
              <p:nvPr/>
            </p:nvSpPr>
            <p:spPr>
              <a:xfrm>
                <a:off x="5486400" y="1447920"/>
                <a:ext cx="18288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14"/>
              <p:cNvSpPr txBox="1"/>
              <p:nvPr/>
            </p:nvSpPr>
            <p:spPr>
              <a:xfrm>
                <a:off x="5486400" y="2743200"/>
                <a:ext cx="16765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15"/>
              <p:cNvSpPr txBox="1"/>
              <p:nvPr/>
            </p:nvSpPr>
            <p:spPr>
              <a:xfrm>
                <a:off x="5486400" y="4038480"/>
                <a:ext cx="2209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16"/>
              <p:cNvSpPr txBox="1"/>
              <p:nvPr/>
            </p:nvSpPr>
            <p:spPr>
              <a:xfrm>
                <a:off x="5486400" y="4952880"/>
                <a:ext cx="20574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1066680" y="0"/>
            <a:ext cx="70866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Verdana"/>
              </a:rPr>
              <a:t>                    </a:t>
            </a:r>
            <a:r>
              <a:rPr b="1" i="1" lang="ru-RU" sz="2800" spc="-1" strike="noStrike">
                <a:solidFill>
                  <a:srgbClr val="6600cc"/>
                </a:solidFill>
                <a:latin typeface="Verdana"/>
              </a:rPr>
              <a:t>Тетраэ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етраэдр не имеет центра симметрии, но имеет 3 оси симметрии и 6 плоскостей симмет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2133720" y="2286000"/>
            <a:ext cx="4038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Радиус описанной сфер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Радиус вписанной сфер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Площадь поверхнос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Verdana"/>
              </a:rPr>
              <a:t>Объем тетраэдр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1f127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8" descr="tetr_copy"/>
          <p:cNvPicPr/>
          <p:nvPr/>
        </p:nvPicPr>
        <p:blipFill>
          <a:blip r:embed="rId1">
            <a:grayscl/>
          </a:blip>
          <a:stretch/>
        </p:blipFill>
        <p:spPr>
          <a:xfrm>
            <a:off x="228600" y="3276720"/>
            <a:ext cx="1676520" cy="1752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18" name="AutoShape 9">
            <a:hlinkClick r:id="" action="ppaction://hlinkshowjump?jump=nextslide"/>
          </p:cNvPr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10">
            <a:hlinkClick r:id="" action="ppaction://hlinkshowjump?jump=previousslide"/>
          </p:cNvPr>
          <p:cNvSpPr/>
          <p:nvPr/>
        </p:nvSpPr>
        <p:spPr>
          <a:xfrm>
            <a:off x="6858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1"/>
          <p:cNvSpPr/>
          <p:nvPr/>
        </p:nvSpPr>
        <p:spPr>
          <a:xfrm>
            <a:off x="1573920" y="6521400"/>
            <a:ext cx="161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 Black"/>
                <a:hlinkClick r:id="rId2" action="ppaction://hlinksldjump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12" descr="сова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2" name="Object 13"/>
              <p:cNvSpPr txBox="1"/>
              <p:nvPr/>
            </p:nvSpPr>
            <p:spPr>
              <a:xfrm>
                <a:off x="6324480" y="2057400"/>
                <a:ext cx="16765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14"/>
              <p:cNvSpPr txBox="1"/>
              <p:nvPr/>
            </p:nvSpPr>
            <p:spPr>
              <a:xfrm>
                <a:off x="6324480" y="3505320"/>
                <a:ext cx="16765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5"/>
              <p:cNvSpPr txBox="1"/>
              <p:nvPr/>
            </p:nvSpPr>
            <p:spPr>
              <a:xfrm>
                <a:off x="6324480" y="4800600"/>
                <a:ext cx="18288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6"/>
              <p:cNvSpPr txBox="1"/>
              <p:nvPr/>
            </p:nvSpPr>
            <p:spPr>
              <a:xfrm>
                <a:off x="6324480" y="5638680"/>
                <a:ext cx="17528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26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9144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         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Гексаэдр (ку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уб имеет центр симметрии - центр куба, 9 ос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имметрии и 9 плоскостей симметри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0" y="-411480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                     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304920" y="1828800"/>
            <a:ext cx="6629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Радиус описанной сф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Радиус вписанной сф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Площадь поверхности куб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Объем</a:t>
            </a: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куба</a:t>
            </a: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:</a:t>
            </a:r>
            <a:r>
              <a:rPr b="1" i="1" lang="en-US" sz="2800" spc="-1" strike="noStrike">
                <a:solidFill>
                  <a:srgbClr val="61f127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9" descr="cube1"/>
          <p:cNvPicPr/>
          <p:nvPr/>
        </p:nvPicPr>
        <p:blipFill>
          <a:blip r:embed="rId1"/>
          <a:stretch/>
        </p:blipFill>
        <p:spPr>
          <a:xfrm>
            <a:off x="3886200" y="4800600"/>
            <a:ext cx="1514520" cy="16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30" name="AutoShape 10">
            <a:hlinkClick r:id="" action="ppaction://hlinkshowjump?jump=previousslide"/>
          </p:cNvPr>
          <p:cNvSpPr/>
          <p:nvPr/>
        </p:nvSpPr>
        <p:spPr>
          <a:xfrm>
            <a:off x="6858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utoShape 11">
            <a:hlinkClick r:id="" action="ppaction://hlinkshowjump?jump=nextslide"/>
          </p:cNvPr>
          <p:cNvSpPr/>
          <p:nvPr/>
        </p:nvSpPr>
        <p:spPr>
          <a:xfrm>
            <a:off x="81532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497240" y="6521400"/>
            <a:ext cx="1631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 Black"/>
                <a:hlinkClick r:id="rId2" action="ppaction://hlinksldjump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13" descr="сова"/>
          <p:cNvPicPr/>
          <p:nvPr/>
        </p:nvPicPr>
        <p:blipFill>
          <a:blip r:embed="rId3"/>
          <a:stretch/>
        </p:blipFill>
        <p:spPr>
          <a:xfrm>
            <a:off x="8143920" y="0"/>
            <a:ext cx="100008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4" name="Object 14"/>
              <p:cNvSpPr txBox="1"/>
              <p:nvPr/>
            </p:nvSpPr>
            <p:spPr>
              <a:xfrm>
                <a:off x="6477120" y="1600200"/>
                <a:ext cx="15238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15"/>
              <p:cNvSpPr txBox="1"/>
              <p:nvPr/>
            </p:nvSpPr>
            <p:spPr>
              <a:xfrm>
                <a:off x="6477120" y="2819520"/>
                <a:ext cx="11430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20"/>
              <p:cNvSpPr txBox="1"/>
              <p:nvPr/>
            </p:nvSpPr>
            <p:spPr>
              <a:xfrm>
                <a:off x="6477120" y="4114800"/>
                <a:ext cx="144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22"/>
              <p:cNvSpPr txBox="1"/>
              <p:nvPr/>
            </p:nvSpPr>
            <p:spPr>
              <a:xfrm>
                <a:off x="6477120" y="5257800"/>
                <a:ext cx="1447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5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533520" y="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Додекаэ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Додекаэдр имеет центр симметрии - центр додекаэдра, 15 осей симметрии и 15 плоскостей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3"/>
          <p:cNvSpPr/>
          <p:nvPr/>
        </p:nvSpPr>
        <p:spPr>
          <a:xfrm>
            <a:off x="45720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Радиус описанной сферы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Радиус вписанной сферы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Площадь поверхност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Объем додекаэдр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1f127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Picture 8" descr="ddcdr1"/>
          <p:cNvPicPr/>
          <p:nvPr/>
        </p:nvPicPr>
        <p:blipFill>
          <a:blip r:embed="rId1"/>
          <a:stretch/>
        </p:blipFill>
        <p:spPr>
          <a:xfrm>
            <a:off x="7924680" y="5105520"/>
            <a:ext cx="1219320" cy="117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43" name="AutoShape 9">
            <a:hlinkClick r:id="" action="ppaction://hlinkshowjump?jump=previousslide"/>
          </p:cNvPr>
          <p:cNvSpPr/>
          <p:nvPr/>
        </p:nvSpPr>
        <p:spPr>
          <a:xfrm>
            <a:off x="6858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10">
            <a:hlinkClick r:id="" action="ppaction://hlinkshowjump?jump=nextslide"/>
          </p:cNvPr>
          <p:cNvSpPr/>
          <p:nvPr/>
        </p:nvSpPr>
        <p:spPr>
          <a:xfrm>
            <a:off x="79246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11"/>
          <p:cNvSpPr/>
          <p:nvPr/>
        </p:nvSpPr>
        <p:spPr>
          <a:xfrm>
            <a:off x="1649520" y="6521400"/>
            <a:ext cx="1631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Arial Black"/>
                <a:hlinkClick r:id="rId2" action="ppaction://hlinksldjump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12" descr="сова"/>
          <p:cNvPicPr/>
          <p:nvPr/>
        </p:nvPicPr>
        <p:blipFill>
          <a:blip r:embed="rId3"/>
          <a:stretch/>
        </p:blipFill>
        <p:spPr>
          <a:xfrm>
            <a:off x="8143920" y="0"/>
            <a:ext cx="1000080" cy="16002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13"/>
              <p:cNvSpPr txBox="1"/>
              <p:nvPr/>
            </p:nvSpPr>
            <p:spPr>
              <a:xfrm>
                <a:off x="5791320" y="1752480"/>
                <a:ext cx="23619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9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15"/>
              <p:cNvSpPr txBox="1"/>
              <p:nvPr/>
            </p:nvSpPr>
            <p:spPr>
              <a:xfrm>
                <a:off x="5791320" y="2895480"/>
                <a:ext cx="2057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1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Object 17"/>
              <p:cNvSpPr txBox="1"/>
              <p:nvPr/>
            </p:nvSpPr>
            <p:spPr>
              <a:xfrm>
                <a:off x="5791320" y="4343400"/>
                <a:ext cx="2590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3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9"/>
              <p:cNvSpPr txBox="1"/>
              <p:nvPr/>
            </p:nvSpPr>
            <p:spPr>
              <a:xfrm>
                <a:off x="5791320" y="5334120"/>
                <a:ext cx="22096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3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838080" y="0"/>
            <a:ext cx="7696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Икосаэ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Икосаэдр имеет центр симметрии - центр икосаэдра, 15 осей симметрии и 15 плоскостей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457200" y="1828800"/>
            <a:ext cx="6629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Радиус описанной сф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Радиус вписанной сф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Площадь поверх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Объем икосаэд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1f127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7" name="Picture 8" descr="ico"/>
          <p:cNvPicPr/>
          <p:nvPr/>
        </p:nvPicPr>
        <p:blipFill>
          <a:blip r:embed="rId1"/>
          <a:stretch/>
        </p:blipFill>
        <p:spPr>
          <a:xfrm>
            <a:off x="4419720" y="5105520"/>
            <a:ext cx="1600200" cy="147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58" name="AutoShape 9">
            <a:hlinkClick r:id="" action="ppaction://hlinkshowjump?jump=previousslide"/>
          </p:cNvPr>
          <p:cNvSpPr/>
          <p:nvPr/>
        </p:nvSpPr>
        <p:spPr>
          <a:xfrm>
            <a:off x="6858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AutoShape 10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1420920" y="652140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 Black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12" descr="сова"/>
          <p:cNvPicPr/>
          <p:nvPr/>
        </p:nvPicPr>
        <p:blipFill>
          <a:blip r:embed="rId2"/>
          <a:stretch/>
        </p:blipFill>
        <p:spPr>
          <a:xfrm>
            <a:off x="8143920" y="0"/>
            <a:ext cx="1000080" cy="160020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13"/>
              <p:cNvSpPr txBox="1"/>
              <p:nvPr/>
            </p:nvSpPr>
            <p:spPr>
              <a:xfrm>
                <a:off x="6248520" y="1752480"/>
                <a:ext cx="2361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4" name="Rectangle 1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Object 15"/>
              <p:cNvSpPr txBox="1"/>
              <p:nvPr/>
            </p:nvSpPr>
            <p:spPr>
              <a:xfrm>
                <a:off x="6248520" y="2971800"/>
                <a:ext cx="20574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6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17"/>
              <p:cNvSpPr txBox="1"/>
              <p:nvPr/>
            </p:nvSpPr>
            <p:spPr>
              <a:xfrm>
                <a:off x="6248520" y="4343400"/>
                <a:ext cx="2057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8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19"/>
              <p:cNvSpPr txBox="1"/>
              <p:nvPr/>
            </p:nvSpPr>
            <p:spPr>
              <a:xfrm>
                <a:off x="6248520" y="5562720"/>
                <a:ext cx="19810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500"/>
                            </p:stCondLst>
                            <p:childTnLst>
                              <p:par>
                                <p:cTn id="36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71" name="Rectangle 4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61f127"/>
                </a:solidFill>
                <a:latin typeface="Monotype Corsiva"/>
              </a:rPr>
              <a:t>              </a:t>
            </a:r>
            <a:r>
              <a:rPr b="1" lang="ru-RU" sz="5100" spc="-1" strike="noStrike">
                <a:solidFill>
                  <a:srgbClr val="61f127"/>
                </a:solidFill>
                <a:latin typeface="Monotype Corsiva"/>
              </a:rPr>
              <a:t>Таблица № 1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0056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61f127"/>
                </a:solidFill>
                <a:latin typeface="Monotype Corsiva"/>
              </a:rPr>
              <a:t>Правильные выпуклые многогранники</a:t>
            </a:r>
            <a:endParaRPr b="0" lang="en-US" sz="9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685800" y="1447920"/>
          <a:ext cx="7791480" cy="4663800"/>
        </p:xfrm>
        <a:graphic>
          <a:graphicData uri="http://schemas.openxmlformats.org/drawingml/2006/table">
            <a:tbl>
              <a:tblPr/>
              <a:tblGrid>
                <a:gridCol w="1863720"/>
                <a:gridCol w="2954520"/>
                <a:gridCol w="29732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73" name="Rectangle 34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61f127"/>
                </a:solidFill>
                <a:latin typeface="Monotype Corsiva"/>
              </a:rPr>
              <a:t>              </a:t>
            </a:r>
            <a:r>
              <a:rPr b="1" lang="ru-RU" sz="5100" spc="-1" strike="noStrike">
                <a:solidFill>
                  <a:srgbClr val="61f127"/>
                </a:solidFill>
                <a:latin typeface="Monotype Corsiva"/>
              </a:rPr>
              <a:t>Таблица № 2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066680" y="1905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Свойства этих многогранников изу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чали ученые и священники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 их м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дели можно увидеть в работах ар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хитекторов и ювелиров, им припи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сывались различные магические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</a:rPr>
              <a:t>целебные свой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1647000" y="685800"/>
            <a:ext cx="554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Black"/>
              </a:rPr>
              <a:t>Немного  исто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Picture 4" descr="лувр дворец-музей"/>
          <p:cNvPicPr/>
          <p:nvPr/>
        </p:nvPicPr>
        <p:blipFill>
          <a:blip r:embed="rId2"/>
          <a:stretch/>
        </p:blipFill>
        <p:spPr>
          <a:xfrm>
            <a:off x="1219320" y="5257800"/>
            <a:ext cx="4114800" cy="13716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5" descr="Добро пожаловать!"/>
          <p:cNvPicPr/>
          <p:nvPr/>
        </p:nvPicPr>
        <p:blipFill>
          <a:blip r:embed="rId3"/>
          <a:stretch/>
        </p:blipFill>
        <p:spPr>
          <a:xfrm>
            <a:off x="5715000" y="4724280"/>
            <a:ext cx="2895480" cy="200520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6">
            <a:hlinkClick r:id="" action="ppaction://hlinkshowjump?jump=previousslide"/>
          </p:cNvPr>
          <p:cNvSpPr/>
          <p:nvPr/>
        </p:nvSpPr>
        <p:spPr>
          <a:xfrm>
            <a:off x="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AutoShape 7">
            <a:hlinkClick r:id="" action="ppaction://hlinkshowjump?jump=nex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1328400" y="6553080"/>
            <a:ext cx="145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 Black"/>
              </a:rPr>
              <a:t>К содерж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Picture 9" descr="сова"/>
          <p:cNvPicPr/>
          <p:nvPr/>
        </p:nvPicPr>
        <p:blipFill>
          <a:blip r:embed="rId4"/>
          <a:stretch/>
        </p:blipFill>
        <p:spPr>
          <a:xfrm>
            <a:off x="8143920" y="0"/>
            <a:ext cx="100008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500"/>
                            </p:stCondLst>
                            <p:childTnLst>
                              <p:par>
                                <p:cTn id="4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914400" y="533520"/>
            <a:ext cx="7543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еликий древнегреческий уче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Платон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, живший в IV-V вв. до н. э., считал, что эти тела олицетворяют сущность природы. Человечеству были известны четыре сущности: огонь, вода, земля и воздух. По мнению Платона, их атомы имели вид правильны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ногогранников:</a:t>
            </a:r>
            <a:r>
              <a:rPr b="1" i="1" lang="ru-RU" sz="3200" spc="-1" strike="noStrike">
                <a:solidFill>
                  <a:srgbClr val="61f127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огн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— тетраэдр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земл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 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— гексаэдр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воздух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 - октаэдр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воды</a:t>
            </a:r>
            <a:r>
              <a:rPr b="1" i="1" lang="ru-RU" sz="3200" spc="-1" strike="noStrike">
                <a:solidFill>
                  <a:srgbClr val="61f12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— икосаэдр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3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4">
            <a:hlinkClick r:id="" action="ppaction://hlinkshowjump?jump=previousslide"/>
          </p:cNvPr>
          <p:cNvSpPr/>
          <p:nvPr/>
        </p:nvSpPr>
        <p:spPr>
          <a:xfrm>
            <a:off x="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11800" y="652140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 Black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Picture 6" descr="сова"/>
          <p:cNvPicPr/>
          <p:nvPr/>
        </p:nvPicPr>
        <p:blipFill>
          <a:blip r:embed="rId2"/>
          <a:stretch/>
        </p:blipFill>
        <p:spPr>
          <a:xfrm>
            <a:off x="8191440" y="0"/>
            <a:ext cx="952560" cy="1523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609480" y="1143000"/>
            <a:ext cx="769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о оставался ещ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одекаэдр</a:t>
            </a:r>
            <a:r>
              <a:rPr b="1" i="1" lang="ru-RU" sz="3200" spc="-1" strike="noStrike">
                <a:solidFill>
                  <a:srgbClr val="61f12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отсутствуе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лное соответствие. Платон предположил, что существует еще одна сущность - мировой эфир, атомы которого имеют вид додекаэдра. Платон и его ученики в своих работах уделяли большое внимание правильным многогранникам, 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этому их ещё называю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"платоновыми телами".</a:t>
            </a:r>
            <a:r>
              <a:rPr b="1" i="1" lang="ru-RU" sz="3200" spc="-1" strike="noStrike">
                <a:solidFill>
                  <a:srgbClr val="61f12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AutoShape 3">
            <a:hlinkClick r:id="" action="ppaction://hlinkshowjump?jump=previousslide"/>
          </p:cNvPr>
          <p:cNvSpPr/>
          <p:nvPr/>
        </p:nvSpPr>
        <p:spPr>
          <a:xfrm>
            <a:off x="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659160" y="652140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5050"/>
                </a:solidFill>
                <a:latin typeface="Arial Black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5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6" descr="сова"/>
          <p:cNvPicPr/>
          <p:nvPr/>
        </p:nvPicPr>
        <p:blipFill>
          <a:blip r:embed="rId2"/>
          <a:stretch/>
        </p:blipFill>
        <p:spPr>
          <a:xfrm>
            <a:off x="8143920" y="0"/>
            <a:ext cx="100008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4" descr="http://tmn.fio.ru/works/26x/304/images/ogon.gif"/>
          <p:cNvPicPr/>
          <p:nvPr/>
        </p:nvPicPr>
        <p:blipFill>
          <a:blip r:embed="rId2"/>
          <a:stretch/>
        </p:blipFill>
        <p:spPr>
          <a:xfrm>
            <a:off x="1403280" y="333360"/>
            <a:ext cx="1343160" cy="990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" descr="http://tmn.fio.ru/works/26x/304/images/woda.jpg"/>
          <p:cNvPicPr/>
          <p:nvPr/>
        </p:nvPicPr>
        <p:blipFill>
          <a:blip r:embed="rId3"/>
          <a:stretch/>
        </p:blipFill>
        <p:spPr>
          <a:xfrm>
            <a:off x="1476360" y="1628640"/>
            <a:ext cx="1343160" cy="10573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6" descr="http://tmn.fio.ru/works/26x/304/images/wozduh.jpg"/>
          <p:cNvPicPr/>
          <p:nvPr/>
        </p:nvPicPr>
        <p:blipFill>
          <a:blip r:embed="rId4"/>
          <a:stretch/>
        </p:blipFill>
        <p:spPr>
          <a:xfrm>
            <a:off x="1476360" y="2852640"/>
            <a:ext cx="1343160" cy="1009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7" descr="http://tmn.fio.ru/works/26x/304/images/sem2.jpg"/>
          <p:cNvPicPr/>
          <p:nvPr/>
        </p:nvPicPr>
        <p:blipFill>
          <a:blip r:embed="rId5"/>
          <a:stretch/>
        </p:blipFill>
        <p:spPr>
          <a:xfrm>
            <a:off x="1476360" y="4149720"/>
            <a:ext cx="1343160" cy="10288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8" descr="http://tmn.fio.ru/works/26x/304/images/vselen.jpg"/>
          <p:cNvPicPr/>
          <p:nvPr/>
        </p:nvPicPr>
        <p:blipFill>
          <a:blip r:embed="rId6"/>
          <a:stretch/>
        </p:blipFill>
        <p:spPr>
          <a:xfrm>
            <a:off x="1476360" y="5445000"/>
            <a:ext cx="1343160" cy="10098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9" descr="5tetra2pros"/>
          <p:cNvPicPr/>
          <p:nvPr/>
        </p:nvPicPr>
        <p:blipFill>
          <a:blip r:embed="rId7"/>
          <a:stretch/>
        </p:blipFill>
        <p:spPr>
          <a:xfrm>
            <a:off x="5724360" y="333360"/>
            <a:ext cx="1067040" cy="9986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0" descr="5ikos2pros"/>
          <p:cNvPicPr/>
          <p:nvPr/>
        </p:nvPicPr>
        <p:blipFill>
          <a:blip r:embed="rId8"/>
          <a:stretch/>
        </p:blipFill>
        <p:spPr>
          <a:xfrm>
            <a:off x="5724360" y="1557360"/>
            <a:ext cx="1086120" cy="12096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1" descr="5okta2pros"/>
          <p:cNvPicPr/>
          <p:nvPr/>
        </p:nvPicPr>
        <p:blipFill>
          <a:blip r:embed="rId9"/>
          <a:stretch/>
        </p:blipFill>
        <p:spPr>
          <a:xfrm>
            <a:off x="5724360" y="2852640"/>
            <a:ext cx="1124280" cy="11527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2" descr="5kub2pros"/>
          <p:cNvPicPr/>
          <p:nvPr/>
        </p:nvPicPr>
        <p:blipFill>
          <a:blip r:embed="rId10"/>
          <a:stretch/>
        </p:blipFill>
        <p:spPr>
          <a:xfrm>
            <a:off x="5724360" y="407664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3" descr="5dode2pros"/>
          <p:cNvPicPr/>
          <p:nvPr/>
        </p:nvPicPr>
        <p:blipFill>
          <a:blip r:embed="rId11"/>
          <a:stretch/>
        </p:blipFill>
        <p:spPr>
          <a:xfrm>
            <a:off x="5724360" y="5445000"/>
            <a:ext cx="1133640" cy="110520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14"/>
          <p:cNvSpPr/>
          <p:nvPr/>
        </p:nvSpPr>
        <p:spPr>
          <a:xfrm>
            <a:off x="2987640" y="10526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го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059280" y="220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3059280" y="3429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во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3059280" y="4797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990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8"/>
          <p:cNvSpPr/>
          <p:nvPr/>
        </p:nvSpPr>
        <p:spPr>
          <a:xfrm>
            <a:off x="2916360" y="5877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всел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9"/>
          <p:cNvSpPr/>
          <p:nvPr/>
        </p:nvSpPr>
        <p:spPr>
          <a:xfrm>
            <a:off x="6877080" y="54936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5ad"/>
                </a:solidFill>
                <a:latin typeface="Times New Roman"/>
                <a:ea typeface="Times New Roman"/>
              </a:rPr>
              <a:t>тетр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20"/>
          <p:cNvSpPr/>
          <p:nvPr/>
        </p:nvSpPr>
        <p:spPr>
          <a:xfrm>
            <a:off x="6934320" y="16765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5ad"/>
                </a:solidFill>
                <a:latin typeface="Times New Roman"/>
                <a:ea typeface="Times New Roman"/>
              </a:rPr>
              <a:t>икос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948360" y="299736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5ad"/>
                </a:solidFill>
                <a:latin typeface="Times New Roman"/>
                <a:ea typeface="Times New Roman"/>
              </a:rPr>
              <a:t>окт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7020000" y="4149720"/>
            <a:ext cx="110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7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45ad"/>
                </a:solidFill>
                <a:latin typeface="Times New Roman"/>
                <a:ea typeface="Times New Roman"/>
              </a:rPr>
              <a:t>гекс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23"/>
          <p:cNvSpPr/>
          <p:nvPr/>
        </p:nvSpPr>
        <p:spPr>
          <a:xfrm>
            <a:off x="6948360" y="55897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5ad"/>
                </a:solidFill>
                <a:latin typeface="Times New Roman"/>
                <a:ea typeface="Times New Roman"/>
              </a:rPr>
              <a:t>додек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561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авильные многогранник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 философской картине мира Платона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900000" y="141300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5ad"/>
                </a:solidFill>
                <a:latin typeface="Monotype Corsiva"/>
              </a:rPr>
              <a:t>Платон считал, что мир строится из четырёх «стихий» - огня, земли, воздуха и воды, а атомы этих «стихий» имеют форму четырёх правильных многогран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Picture 14" descr="Рисунок6"/>
          <p:cNvPicPr/>
          <p:nvPr/>
        </p:nvPicPr>
        <p:blipFill>
          <a:blip r:embed="rId2"/>
          <a:srcRect l="9930" t="0" r="0" b="0"/>
          <a:stretch/>
        </p:blipFill>
        <p:spPr>
          <a:xfrm>
            <a:off x="3132000" y="3716280"/>
            <a:ext cx="3095640" cy="23306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5" descr="Рисунок1"/>
          <p:cNvPicPr/>
          <p:nvPr/>
        </p:nvPicPr>
        <p:blipFill>
          <a:blip r:embed="rId3"/>
          <a:srcRect l="0" t="0" r="70232" b="0"/>
          <a:stretch/>
        </p:blipFill>
        <p:spPr>
          <a:xfrm>
            <a:off x="6877080" y="2637000"/>
            <a:ext cx="1079640" cy="1081080"/>
          </a:xfrm>
          <a:prstGeom prst="rect">
            <a:avLst/>
          </a:prstGeom>
          <a:ln w="0">
            <a:noFill/>
          </a:ln>
        </p:spPr>
      </p:pic>
      <p:sp>
        <p:nvSpPr>
          <p:cNvPr id="816" name="Line 16"/>
          <p:cNvSpPr/>
          <p:nvPr/>
        </p:nvSpPr>
        <p:spPr>
          <a:xfrm flipH="1">
            <a:off x="5148360" y="5157720"/>
            <a:ext cx="180000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Picture 18" descr="Рисунок1"/>
          <p:cNvPicPr/>
          <p:nvPr/>
        </p:nvPicPr>
        <p:blipFill>
          <a:blip r:embed="rId4"/>
          <a:srcRect l="32984" t="0" r="34037" b="0"/>
          <a:stretch/>
        </p:blipFill>
        <p:spPr>
          <a:xfrm>
            <a:off x="1116000" y="2997360"/>
            <a:ext cx="1297080" cy="11728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19"/>
          <p:cNvSpPr/>
          <p:nvPr/>
        </p:nvSpPr>
        <p:spPr>
          <a:xfrm>
            <a:off x="3276720" y="3789360"/>
            <a:ext cx="431640" cy="4334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6443640" y="3645000"/>
            <a:ext cx="22320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5ad"/>
                </a:solidFill>
                <a:latin typeface="Tahoma"/>
              </a:rPr>
              <a:t>Тетраэдр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45ad"/>
                </a:solidFill>
                <a:latin typeface="Tahoma"/>
              </a:rPr>
              <a:t>олицетворял огонь, поскольку его вершина устремл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5ad"/>
                </a:solidFill>
                <a:latin typeface="Tahoma"/>
              </a:rPr>
              <a:t>вверх, как у пламе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1042920" y="414972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5ad"/>
                </a:solidFill>
                <a:latin typeface="Tahoma"/>
              </a:rPr>
              <a:t>октаэдр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45ad"/>
                </a:solidFill>
                <a:latin typeface="Tahoma"/>
              </a:rPr>
              <a:t>– олицетворял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45ad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Line 22"/>
          <p:cNvSpPr/>
          <p:nvPr/>
        </p:nvSpPr>
        <p:spPr>
          <a:xfrm>
            <a:off x="2124000" y="3860640"/>
            <a:ext cx="1943280" cy="648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2" name="Picture 23" descr="Рисунок2"/>
          <p:cNvPicPr/>
          <p:nvPr/>
        </p:nvPicPr>
        <p:blipFill>
          <a:blip r:embed="rId5"/>
          <a:stretch/>
        </p:blipFill>
        <p:spPr>
          <a:xfrm>
            <a:off x="1116000" y="4724280"/>
            <a:ext cx="1042920" cy="971640"/>
          </a:xfrm>
          <a:prstGeom prst="rect">
            <a:avLst/>
          </a:prstGeom>
          <a:ln w="0">
            <a:noFill/>
          </a:ln>
        </p:spPr>
      </p:pic>
      <p:sp>
        <p:nvSpPr>
          <p:cNvPr id="823" name="Line 24"/>
          <p:cNvSpPr/>
          <p:nvPr/>
        </p:nvSpPr>
        <p:spPr>
          <a:xfrm flipV="1">
            <a:off x="2195640" y="4941720"/>
            <a:ext cx="2089080" cy="216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25"/>
          <p:cNvSpPr/>
          <p:nvPr/>
        </p:nvSpPr>
        <p:spPr>
          <a:xfrm>
            <a:off x="900000" y="5734080"/>
            <a:ext cx="216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5ad"/>
                </a:solidFill>
                <a:latin typeface="Arial"/>
              </a:rPr>
              <a:t>куб – самая устойчивая из фигур – олицетворял земл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26" descr="Рисунок1"/>
          <p:cNvPicPr/>
          <p:nvPr/>
        </p:nvPicPr>
        <p:blipFill>
          <a:blip r:embed="rId6"/>
          <a:srcRect l="68074" t="0" r="0" b="0"/>
          <a:stretch/>
        </p:blipFill>
        <p:spPr>
          <a:xfrm>
            <a:off x="6948360" y="465300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27"/>
          <p:cNvSpPr/>
          <p:nvPr/>
        </p:nvSpPr>
        <p:spPr>
          <a:xfrm>
            <a:off x="6516720" y="5661000"/>
            <a:ext cx="18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5ad"/>
                </a:solidFill>
                <a:latin typeface="Arial"/>
              </a:rPr>
              <a:t>икосаэдр – как самый обтекаемый – олицетворял во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Line 28"/>
          <p:cNvSpPr/>
          <p:nvPr/>
        </p:nvSpPr>
        <p:spPr>
          <a:xfrm flipH="1">
            <a:off x="4716000" y="3500280"/>
            <a:ext cx="2087640" cy="1081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9" descr="Рисунок3"/>
          <p:cNvPicPr/>
          <p:nvPr/>
        </p:nvPicPr>
        <p:blipFill>
          <a:blip r:embed="rId7"/>
          <a:stretch/>
        </p:blipFill>
        <p:spPr>
          <a:xfrm>
            <a:off x="3780000" y="2637000"/>
            <a:ext cx="1008000" cy="8632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30"/>
          <p:cNvSpPr/>
          <p:nvPr/>
        </p:nvSpPr>
        <p:spPr>
          <a:xfrm>
            <a:off x="4859280" y="270828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45ad"/>
                </a:solidFill>
                <a:latin typeface="Arial"/>
              </a:rPr>
              <a:t>додекаэдр символизировал весь ми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31"/>
          <p:cNvSpPr/>
          <p:nvPr/>
        </p:nvSpPr>
        <p:spPr>
          <a:xfrm flipH="1">
            <a:off x="3995640" y="3500280"/>
            <a:ext cx="144720" cy="4334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32" name="Picture 4" descr="mnogogr-priroda-1"/>
          <p:cNvPicPr/>
          <p:nvPr/>
        </p:nvPicPr>
        <p:blipFill>
          <a:blip r:embed="rId2"/>
          <a:stretch/>
        </p:blipFill>
        <p:spPr>
          <a:xfrm>
            <a:off x="324000" y="260280"/>
            <a:ext cx="2743200" cy="190188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5"/>
          <p:cNvSpPr/>
          <p:nvPr/>
        </p:nvSpPr>
        <p:spPr>
          <a:xfrm>
            <a:off x="395280" y="2276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5ad"/>
                </a:solidFill>
                <a:latin typeface="Arial"/>
              </a:rPr>
              <a:t>Поваренная соль состоит из кристаллов в форме куб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6" descr="mnogogr-priroda-2"/>
          <p:cNvPicPr/>
          <p:nvPr/>
        </p:nvPicPr>
        <p:blipFill>
          <a:blip r:embed="rId3"/>
          <a:stretch/>
        </p:blipFill>
        <p:spPr>
          <a:xfrm>
            <a:off x="4140360" y="189000"/>
            <a:ext cx="1474560" cy="170964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7"/>
          <p:cNvSpPr/>
          <p:nvPr/>
        </p:nvSpPr>
        <p:spPr>
          <a:xfrm>
            <a:off x="5796000" y="259920"/>
            <a:ext cx="311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5ad"/>
                </a:solidFill>
                <a:latin typeface="Arial"/>
              </a:rPr>
              <a:t>Скелет одноклеточного организма феодарии представляет собой икосаэ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Picture 8" descr="mnogogr-priroda-3"/>
          <p:cNvPicPr/>
          <p:nvPr/>
        </p:nvPicPr>
        <p:blipFill>
          <a:blip r:embed="rId4"/>
          <a:stretch/>
        </p:blipFill>
        <p:spPr>
          <a:xfrm>
            <a:off x="468360" y="3213000"/>
            <a:ext cx="2477880" cy="193068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9"/>
          <p:cNvSpPr/>
          <p:nvPr/>
        </p:nvSpPr>
        <p:spPr>
          <a:xfrm>
            <a:off x="395280" y="5300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5ad"/>
                </a:solidFill>
                <a:latin typeface="Arial"/>
              </a:rPr>
              <a:t>Минерал сильвин также имеет кристаллическую решетку в форме куб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8" name="Picture 10" descr="mnogogr-priroda-4"/>
          <p:cNvPicPr/>
          <p:nvPr/>
        </p:nvPicPr>
        <p:blipFill>
          <a:blip r:embed="rId5"/>
          <a:stretch/>
        </p:blipFill>
        <p:spPr>
          <a:xfrm>
            <a:off x="6732720" y="1773360"/>
            <a:ext cx="2160360" cy="1833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2" descr="mnogogr-priroda-6"/>
          <p:cNvPicPr/>
          <p:nvPr/>
        </p:nvPicPr>
        <p:blipFill>
          <a:blip r:embed="rId6"/>
          <a:stretch/>
        </p:blipFill>
        <p:spPr>
          <a:xfrm>
            <a:off x="3203640" y="2060640"/>
            <a:ext cx="3076560" cy="196524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13"/>
          <p:cNvSpPr/>
          <p:nvPr/>
        </p:nvSpPr>
        <p:spPr>
          <a:xfrm>
            <a:off x="3492360" y="4149360"/>
            <a:ext cx="27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5ad"/>
                </a:solidFill>
                <a:latin typeface="Arial"/>
              </a:rPr>
              <a:t>Молекулы воды имеют форму тетраэд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14" descr="mnogogr-priroda-5"/>
          <p:cNvPicPr/>
          <p:nvPr/>
        </p:nvPicPr>
        <p:blipFill>
          <a:blip r:embed="rId7"/>
          <a:stretch/>
        </p:blipFill>
        <p:spPr>
          <a:xfrm>
            <a:off x="3492360" y="4869000"/>
            <a:ext cx="2281320" cy="164124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5"/>
          <p:cNvSpPr/>
          <p:nvPr/>
        </p:nvSpPr>
        <p:spPr>
          <a:xfrm>
            <a:off x="6372360" y="5084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5ad"/>
                </a:solidFill>
                <a:latin typeface="Arial"/>
              </a:rPr>
              <a:t>Минерал куприт образует кристаллы в форме октаэд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3" name="Picture 16" descr=""/>
          <p:cNvPicPr/>
          <p:nvPr/>
        </p:nvPicPr>
        <p:blipFill>
          <a:blip r:embed="rId8"/>
          <a:stretch/>
        </p:blipFill>
        <p:spPr>
          <a:xfrm>
            <a:off x="5651640" y="1773360"/>
            <a:ext cx="685800" cy="7189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7" descr=""/>
          <p:cNvPicPr/>
          <p:nvPr/>
        </p:nvPicPr>
        <p:blipFill>
          <a:blip r:embed="rId9"/>
          <a:stretch/>
        </p:blipFill>
        <p:spPr>
          <a:xfrm>
            <a:off x="5651640" y="5877000"/>
            <a:ext cx="576000" cy="69192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1"/>
          <p:cNvSpPr/>
          <p:nvPr/>
        </p:nvSpPr>
        <p:spPr>
          <a:xfrm>
            <a:off x="6588000" y="3644640"/>
            <a:ext cx="231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5ad"/>
                </a:solidFill>
                <a:latin typeface="Arial"/>
              </a:rPr>
              <a:t>Кристаллы пирита имеют форму додекаэд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18" descr=""/>
          <p:cNvPicPr/>
          <p:nvPr/>
        </p:nvPicPr>
        <p:blipFill>
          <a:blip r:embed="rId10"/>
          <a:stretch/>
        </p:blipFill>
        <p:spPr>
          <a:xfrm>
            <a:off x="8512200" y="14842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11"/>
          <a:stretch/>
        </p:blipFill>
        <p:spPr>
          <a:xfrm>
            <a:off x="3708360" y="189000"/>
            <a:ext cx="560520" cy="5745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0" descr=""/>
          <p:cNvPicPr/>
          <p:nvPr/>
        </p:nvPicPr>
        <p:blipFill>
          <a:blip r:embed="rId12"/>
          <a:stretch/>
        </p:blipFill>
        <p:spPr>
          <a:xfrm>
            <a:off x="0" y="3141720"/>
            <a:ext cx="674640" cy="71892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22">
            <a:hlinkClick r:id="" action="ppaction://hlinkshowjump?jump=nextslide"/>
          </p:cNvPr>
          <p:cNvSpPr/>
          <p:nvPr/>
        </p:nvSpPr>
        <p:spPr>
          <a:xfrm>
            <a:off x="8028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3794"/>
                </a:moveTo>
                <a:lnTo>
                  <a:pt x="22573" y="10800"/>
                </a:lnTo>
                <a:lnTo>
                  <a:pt x="8561" y="17806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WordArt 4"/>
          <p:cNvSpPr txBox="1"/>
          <p:nvPr/>
        </p:nvSpPr>
        <p:spPr>
          <a:xfrm>
            <a:off x="2286000" y="762120"/>
            <a:ext cx="4800600" cy="35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Проблема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Определение правильного многогран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Виды правильных многогран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Элементы симметрии и форму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Немного ист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Использованные материа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WordArt 4"/>
          <p:cNvSpPr txBox="1"/>
          <p:nvPr/>
        </p:nvSpPr>
        <p:spPr>
          <a:xfrm>
            <a:off x="3048120" y="152280"/>
            <a:ext cx="3124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838080" y="160020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авильных многогранников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cc00"/>
                </a:solidFill>
                <a:latin typeface="Monotype Corsiva"/>
              </a:rPr>
              <a:t>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Garamond"/>
              </a:rPr>
              <a:t>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Л.Кэрролл</a:t>
            </a: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1f127"/>
                </a:solidFill>
                <a:latin typeface="Agency FB"/>
              </a:rPr>
              <a:t>Проблема исследова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многогранник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протяжении всей истории велось не только с позиций дальнейшего их применения, но и с целью осмысления философских вопросов об устройстве Вселенной и природе Простран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1f127"/>
                </a:solidFill>
                <a:latin typeface="Arial"/>
              </a:rPr>
              <a:t>Определение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ыпуклый многогранник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ется правильным, если все его грани равные правильные многоугольники и, кроме того, в каждой вершине сходится одинаковое число реб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ет всего 5 видов правильных многогра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AutoShape 4">
            <a:hlinkClick r:id="" action="ppaction://hlinkshowjump?jump=nextslide"/>
          </p:cNvPr>
          <p:cNvSpPr/>
          <p:nvPr/>
        </p:nvSpPr>
        <p:spPr>
          <a:xfrm>
            <a:off x="76201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previousslide"/>
          </p:cNvPr>
          <p:cNvSpPr/>
          <p:nvPr/>
        </p:nvSpPr>
        <p:spPr>
          <a:xfrm>
            <a:off x="7621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3"/>
          <p:cNvSpPr/>
          <p:nvPr/>
        </p:nvSpPr>
        <p:spPr>
          <a:xfrm>
            <a:off x="1148400" y="380880"/>
            <a:ext cx="69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1f127"/>
                </a:solidFill>
                <a:latin typeface="Arial Black"/>
              </a:rPr>
              <a:t>Виды правильных многогра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3783240" y="3726000"/>
            <a:ext cx="1069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 Black"/>
                <a:hlinkClick r:id="rId1" action="ppaction://hlinksldjump"/>
              </a:rPr>
              <a:t>тетраэ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6704640" y="3726000"/>
            <a:ext cx="104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 Black"/>
                <a:hlinkClick r:id="rId2" action="ppaction://hlinksldjump"/>
              </a:rPr>
              <a:t>гексаэ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963360" y="3801960"/>
            <a:ext cx="962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 Black"/>
                <a:hlinkClick r:id="rId3" action="ppaction://hlinksldjump"/>
              </a:rPr>
              <a:t>октаэ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2375280" y="5867280"/>
            <a:ext cx="1215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 Black"/>
                <a:hlinkClick r:id="rId4" action="ppaction://hlinksldjump"/>
              </a:rPr>
              <a:t>додекаэ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5495760" y="5867280"/>
            <a:ext cx="109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Arial Black"/>
                <a:hlinkClick r:id="rId5" action="ppaction://hlinksldjump"/>
              </a:rPr>
              <a:t>икосаэ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1437120" y="6553080"/>
            <a:ext cx="1684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5050"/>
                </a:solidFill>
                <a:latin typeface="Arial Black"/>
              </a:rPr>
              <a:t>    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Arial Black"/>
                <a:hlinkClick r:id="rId6" action="ppaction://hlinksldjump"/>
              </a:rPr>
              <a:t>К содерж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16" descr="tetrahedron"/>
          <p:cNvPicPr/>
          <p:nvPr/>
        </p:nvPicPr>
        <p:blipFill>
          <a:blip r:embed="rId7"/>
          <a:stretch/>
        </p:blipFill>
        <p:spPr>
          <a:xfrm>
            <a:off x="3505320" y="1981080"/>
            <a:ext cx="1655640" cy="16002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676" name="Picture 17" descr="octahedron"/>
          <p:cNvPicPr/>
          <p:nvPr/>
        </p:nvPicPr>
        <p:blipFill>
          <a:blip r:embed="rId8"/>
          <a:stretch/>
        </p:blipFill>
        <p:spPr>
          <a:xfrm>
            <a:off x="685800" y="1981080"/>
            <a:ext cx="1573200" cy="1644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677" name="Picture 18" descr="cube"/>
          <p:cNvPicPr/>
          <p:nvPr/>
        </p:nvPicPr>
        <p:blipFill>
          <a:blip r:embed="rId9"/>
          <a:stretch/>
        </p:blipFill>
        <p:spPr>
          <a:xfrm>
            <a:off x="6324480" y="1981080"/>
            <a:ext cx="1735200" cy="16002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678" name="Picture 19" descr="dodecahedron"/>
          <p:cNvPicPr/>
          <p:nvPr/>
        </p:nvPicPr>
        <p:blipFill>
          <a:blip r:embed="rId10"/>
          <a:stretch/>
        </p:blipFill>
        <p:spPr>
          <a:xfrm>
            <a:off x="2133720" y="4267080"/>
            <a:ext cx="1657080" cy="15573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679" name="Picture 20" descr="icosahedron"/>
          <p:cNvPicPr/>
          <p:nvPr/>
        </p:nvPicPr>
        <p:blipFill>
          <a:blip r:embed="rId11"/>
          <a:stretch/>
        </p:blipFill>
        <p:spPr>
          <a:xfrm>
            <a:off x="5181480" y="4267080"/>
            <a:ext cx="1676520" cy="15242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680" name="AutoShape 21">
            <a:hlinkClick r:id="" action="ppaction://hlinkshowjump?jump=previousslide"/>
          </p:cNvPr>
          <p:cNvSpPr/>
          <p:nvPr/>
        </p:nvSpPr>
        <p:spPr>
          <a:xfrm>
            <a:off x="9907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22">
            <a:hlinkClick r:id="" action="ppaction://hlinkshowjump?jump=nextslide"/>
          </p:cNvPr>
          <p:cNvSpPr/>
          <p:nvPr/>
        </p:nvSpPr>
        <p:spPr>
          <a:xfrm>
            <a:off x="769608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4190760" y="1905120"/>
            <a:ext cx="4539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5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 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Правильный октаэдр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371600" y="56379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f127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6" descr="octahedron"/>
          <p:cNvPicPr/>
          <p:nvPr/>
        </p:nvPicPr>
        <p:blipFill>
          <a:blip r:embed="rId1"/>
          <a:stretch/>
        </p:blipFill>
        <p:spPr>
          <a:xfrm>
            <a:off x="53352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         </a:t>
            </a:r>
            <a:r>
              <a:rPr b="1" lang="ru-RU" sz="6300" spc="-1" strike="noStrike">
                <a:solidFill>
                  <a:srgbClr val="61f127"/>
                </a:solidFill>
                <a:latin typeface="Monotype Corsiva"/>
              </a:rPr>
              <a:t>Куб (гексаэдр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1600200" y="539424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f127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6" descr="cub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11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24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Home</cp:lastModifiedBy>
  <dcterms:modified xsi:type="dcterms:W3CDTF">2022-02-02T12:21:3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