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16.jpeg" ContentType="image/jpeg"/>
  <Override PartName="/ppt/media/wind.wav" ContentType="audio/x-wav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E4E-5B87-49B0-9BE5-BD8C10E0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DCF-0333-4251-B9CD-0B24A049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0BB-9060-478F-8294-63758CBE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297-F512-453C-96F4-17D3E0B3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2232-0B0A-4473-88ED-ADDCBFA9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1FB8-6E30-4B68-B2BB-26DA5AB8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4432-D00C-4295-9B6E-E01F1BB1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153D-DE7A-4CCB-8CB0-814C65FA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B550-5756-4EAC-9A58-5EB76895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6529-A8A4-454F-9518-B03E3637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EB7C-F5C2-4E15-8079-0380F47C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42A-C5E1-4944-A022-F84982E3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805C-6698-4537-A1DD-98B86D46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745F-EEAB-4748-B0F0-BCFC62F4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FC54-2231-4A68-B67E-37A9A17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8E09-C6EA-41C4-976D-1498265D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84E8-7487-4F96-8E1A-E136F79F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AE9-6B6A-4063-BE9E-2E5A67D5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8FF-2716-478F-83D3-8AEDFFB5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986-B101-461F-8E3E-B0AC692E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F6B-7CAB-49FA-B237-B6D4CD8E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D5A-BFF1-4A84-86C3-ED382E5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CCC-FFFB-4432-B247-B384387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B04-9581-42AA-9BC4-25DBD0B0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111b"/>
                    </a:gs>
                    <a:gs pos="100000">
                      <a:srgbClr val="ff99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ff"/>
                    </a:gs>
                    <a:gs pos="100000">
                      <a:srgbClr val="4b111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8ed333"/>
                    </a:gs>
                    <a:gs pos="100000">
                      <a:srgbClr val="ffcc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cc"/>
                    </a:gs>
                    <a:gs pos="100000">
                      <a:srgbClr val="8ed33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ed3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7EEF-D8FA-42A4-A2C2-DA75DA54A6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b111b"/>
                      </a:gs>
                      <a:gs pos="100000">
                        <a:srgbClr val="ff99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4b111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8ed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8ed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8ed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ed3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A76C-AC90-4117-AEC0-9694771165F3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Тема: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«Многогранники в архитектуре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696000" y="2286000"/>
            <a:ext cx="2448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                                           </a:t>
            </a:r>
            <a:endParaRPr b="0" lang="en-US" sz="1400" spc="-1" strike="noStrike">
              <a:solidFill>
                <a:srgbClr val="660066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                                         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556000" y="5950080"/>
            <a:ext cx="44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3419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Спасская башня — главная башня Московского Кремля (проездная). Построена итальянским архитектором Антонио Солари в 1491 году - соединение прямых призм и пирамид.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79" name="WordArt 4"/>
          <p:cNvSpPr txBox="1"/>
          <p:nvPr/>
        </p:nvSpPr>
        <p:spPr>
          <a:xfrm>
            <a:off x="3500280" y="214200"/>
            <a:ext cx="53578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99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9999ff"/>
                  </a:gs>
                </a:gsLst>
                <a:lin ang="27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-4572000" y="2535120"/>
            <a:ext cx="1952640" cy="2400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342900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6"/>
          <p:cNvSpPr/>
          <p:nvPr/>
        </p:nvSpPr>
        <p:spPr>
          <a:xfrm>
            <a:off x="468360" y="404640"/>
            <a:ext cx="2674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Дубайская башня – небоскрёб -соединение прямых призм.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ысота 160 этажной башни – более 700 м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pic>
        <p:nvPicPr>
          <p:cNvPr id="383" name="Picture 7" descr="понлшг"/>
          <p:cNvPicPr/>
          <p:nvPr/>
        </p:nvPicPr>
        <p:blipFill>
          <a:blip r:embed="rId1"/>
          <a:stretch/>
        </p:blipFill>
        <p:spPr>
          <a:xfrm>
            <a:off x="3857760" y="101520"/>
            <a:ext cx="5286240" cy="6756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385" name="WordArt 6"/>
          <p:cNvSpPr txBox="1"/>
          <p:nvPr/>
        </p:nvSpPr>
        <p:spPr>
          <a:xfrm>
            <a:off x="179280" y="189000"/>
            <a:ext cx="56181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Удивительная крыш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6012000" y="18900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- состоит из треугольнных пирамид</a:t>
            </a:r>
            <a:endParaRPr b="0" lang="en-US" sz="20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285840" y="333360"/>
            <a:ext cx="3643200" cy="49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 Black"/>
              </a:rPr>
              <a:t>Так выглядит Рязанский кремль с высоты птичьего полета-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 Black"/>
              </a:rPr>
              <a:t>форма зданий представляет собой соединение прямоугольных параллелепипедов, прямых треугольных призм и пирамид 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6"/>
          <p:cNvSpPr/>
          <p:nvPr/>
        </p:nvSpPr>
        <p:spPr>
          <a:xfrm>
            <a:off x="214200" y="0"/>
            <a:ext cx="38214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амый оригинальный По архитектуре  Нью – Йоркский небоскрёб –Утюг.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строен в 1903 году на треугольном островке, в месте пересечения трех улиц.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реугольной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призмой.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WordArt 4"/>
          <p:cNvSpPr txBox="1"/>
          <p:nvPr/>
        </p:nvSpPr>
        <p:spPr>
          <a:xfrm>
            <a:off x="2124000" y="0"/>
            <a:ext cx="39466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5750"/>
                <a:gd name="adj2" fmla="val 2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ывод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95280" y="256536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cc00"/>
                </a:solidFill>
                <a:latin typeface="Arial Black"/>
              </a:rPr>
              <a:t>Многие архитектурные сооружения имеют форму выпуклых и невыпуклых многогранников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571680"/>
            <a:ext cx="878508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 Black"/>
              </a:rPr>
              <a:t>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Arial Black"/>
              </a:rPr>
              <a:t>Цель:</a:t>
            </a:r>
            <a:r>
              <a:rPr b="1" i="1" lang="ru-RU" sz="4800" spc="-1" strike="noStrike">
                <a:solidFill>
                  <a:srgbClr val="660066"/>
                </a:solidFill>
                <a:latin typeface="Arial Black"/>
              </a:rPr>
              <a:t> </a:t>
            </a:r>
            <a:br>
              <a:rPr sz="4800"/>
            </a:br>
            <a:r>
              <a:rPr b="1" i="1" lang="ru-RU" sz="4000" spc="-1" strike="noStrike">
                <a:solidFill>
                  <a:srgbClr val="660066"/>
                </a:solidFill>
                <a:latin typeface="Arial Black"/>
              </a:rPr>
              <a:t> Установление соответствия           формы архитектурных сооружений видам многогранников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1071720" y="500040"/>
            <a:ext cx="66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Предмет: геометрия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Учебная тема :многогранники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440" y="5500440"/>
            <a:ext cx="817236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-252720" y="1773000"/>
            <a:ext cx="4608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геометрическое тело, ограниченное со всех сторон плоскими многоугольниками, называемыми гранями. Стороны граней называются ребрами многогранника, а концы ребер — вершинами многогранника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57" name="WordArt 4"/>
          <p:cNvSpPr txBox="1"/>
          <p:nvPr/>
        </p:nvSpPr>
        <p:spPr>
          <a:xfrm>
            <a:off x="539640" y="549360"/>
            <a:ext cx="490392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ногогранн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4140360" y="1700280"/>
            <a:ext cx="5003640" cy="509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5"/>
          <p:cNvSpPr/>
          <p:nvPr/>
        </p:nvSpPr>
        <p:spPr>
          <a:xfrm>
            <a:off x="0" y="333360"/>
            <a:ext cx="5003640" cy="68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зма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(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греч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.prisma, 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отпиленно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)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многогранник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две грани которого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(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основания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) —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равные многоугольники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расположенные в параллельных плоскостях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 а другие грани 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(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боковы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)—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параллелограммы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.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По числу боковых граней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призмы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разделяются на  трёхгранны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четырёхгранны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и т. д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.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 Black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032360" cy="61930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6429240" y="28576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а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7786800" y="28576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б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6429240" y="4214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В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8715240" y="4429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г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5000760" y="4786200"/>
            <a:ext cx="4000320" cy="571680"/>
          </a:xfrm>
          <a:prstGeom prst="rect">
            <a:avLst/>
          </a:prstGeom>
          <a:solidFill>
            <a:srgbClr val="ff8b17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- это  многогранник, основание которого многоугольник, а остальные грани — треугольники, имеющие общую вершину . По числу углов основания различают пирамиды треугольные, четырёхугольные и т. д.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7" name="WordArt 4"/>
          <p:cNvSpPr txBox="1"/>
          <p:nvPr/>
        </p:nvSpPr>
        <p:spPr>
          <a:xfrm>
            <a:off x="395280" y="189000"/>
            <a:ext cx="583236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рамид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4"/>
          <a:stretch/>
        </p:blipFill>
        <p:spPr>
          <a:xfrm>
            <a:off x="1835280" y="357336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214200" y="857160"/>
            <a:ext cx="33480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Усечённая пирамид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- геометрическое тело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сечённое от пирамиды плоскостью, параллельной основанию</a:t>
            </a:r>
            <a:r>
              <a:rPr b="1" lang="ru-RU" sz="2800" spc="-1" strike="noStrike">
                <a:solidFill>
                  <a:srgbClr val="ff0000"/>
                </a:solidFill>
                <a:latin typeface="PragmaticaKMM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580000" cy="4613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357120" y="0"/>
            <a:ext cx="5857920" cy="57610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7"/>
          <p:cNvSpPr/>
          <p:nvPr/>
        </p:nvSpPr>
        <p:spPr>
          <a:xfrm>
            <a:off x="108000" y="5877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Black"/>
              </a:rPr>
              <a:t>Ингушетия. Боевая башня Магой – Джил. </a:t>
            </a:r>
            <a:r>
              <a:rPr b="1" lang="en-US" sz="2400" spc="-1" strike="noStrike">
                <a:solidFill>
                  <a:srgbClr val="660066"/>
                </a:solidFill>
                <a:latin typeface="Arial Black"/>
              </a:rPr>
              <a:t>XIII</a:t>
            </a:r>
            <a:r>
              <a:rPr b="1" lang="ru-RU" sz="2400" spc="-1" strike="noStrike">
                <a:solidFill>
                  <a:srgbClr val="660066"/>
                </a:solidFill>
                <a:latin typeface="Arial Black"/>
              </a:rPr>
              <a:t> век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- усечённая пирамида.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324000" y="0"/>
            <a:ext cx="5040000" cy="66690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6"/>
          <p:cNvSpPr/>
          <p:nvPr/>
        </p:nvSpPr>
        <p:spPr>
          <a:xfrm>
            <a:off x="5500800" y="1125360"/>
            <a:ext cx="339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Нью – Йоркский небоскрёб – это соединение прямых призм и пирамид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5435640" y="404640"/>
            <a:ext cx="356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Самая большая из трех — пирамида Хеопса (зодчий Хемиун, 27 в. до н. э.). Ее высота была изначально 147м, а длина стороны основания — 232м.  Для её сооружения потребовалось 2 млн. 300 тыс. огромных каменных блоков, средний вес которых 2,5т.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76" name="WordArt 4"/>
          <p:cNvSpPr txBox="1"/>
          <p:nvPr/>
        </p:nvSpPr>
        <p:spPr>
          <a:xfrm>
            <a:off x="179280" y="0"/>
            <a:ext cx="5184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гипетские пирамиды</a:t>
            </a:r>
            <a:endParaRPr b="0" lang="en-US" sz="3200" spc="1" strike="noStrike">
              <a:ln w="25560">
                <a:solidFill>
                  <a:srgbClr val="008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4"/>
          <a:stretch/>
        </p:blipFill>
        <p:spPr>
          <a:xfrm>
            <a:off x="0" y="1700280"/>
            <a:ext cx="572436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06:21:48Z</dcterms:created>
  <dc:creator>Маша</dc:creator>
  <dc:description/>
  <dc:language>en-US</dc:language>
  <cp:lastModifiedBy>User</cp:lastModifiedBy>
  <dcterms:modified xsi:type="dcterms:W3CDTF">2019-02-04T18:20:22Z</dcterms:modified>
  <cp:revision>19</cp:revision>
  <dc:subject/>
  <dc:title>Слайд 1</dc:title>
</cp:coreProperties>
</file>