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CE1-3B42-4BE0-88E7-CE382C8D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6BFA-F844-4F79-B07C-2BBFBFCC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A53-239D-4686-8A31-9B607E9A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659-E17F-4121-9655-33CED4BD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3E17-3088-4E19-89D5-E7FD1F68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C9EF-B19A-4812-BDEE-FFE78DEE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C18A-D28F-4275-96A8-B8686C8C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02C6-1F30-4D40-81B4-51F1BA75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DA31-5AB8-4B22-B705-2569AA1E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5198-C252-4D86-B9E6-6B2F7311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B37F-D49D-4E63-B528-AF5BABF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CE0-9EB8-4215-89C0-88F4C49A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882F-FB58-46E9-8E4D-46D7CBED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D300-385E-4F50-B159-3DC02537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870E-8F0F-4573-89EA-44FF2FD1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BE22-5A48-4ED1-BA2E-FE2173F0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C74A-5C11-4EB6-B418-7CCC7D95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855-E623-4776-9835-BC8C4F11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1A5-0701-4FC4-9DD1-28D74D79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AFD-00D8-4DD1-8A2C-09B77ADE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63E-A159-4FFE-A536-05F5DC54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799-87A9-40A3-80AD-AACC7AE9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8DC-0055-49D0-AB39-DF8F0E6B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450-7381-4849-9534-781E155C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BC5C-DE40-44B8-A72D-AA76A8FB10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2A6-6556-4A7E-B732-B2C2800205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Расстройства сознания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сихиатрическая модел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ориентировка в месте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ориентировка во времени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ориентировка в собственной личности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Количественные расстройства созн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оглушение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aush)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торможенность, пассивность внимания, нечеткость восприятия, нарушение осмысления, ослабление запоминания и воспоминания, снижение способности к сужде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опор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езориентировка, бормочущая речь, некоординированные движения, сохраняется болевая чувствительность и рефлекс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ное выключение созна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Качественные расстройства созн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Делирий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рушена ориентировка в месте и времени, галлюцинации (зрительные) стра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Онейроид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ная дезориентировка с наплывом апокалиптических, космических галлюцинац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Аменц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ная дезориентировка, бессвязная речь, мышление, обирающие движ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умеречные расстройства созна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ужение сознания, зрит. галлюцинации (изменение цвета), целенаправленная активность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Качественные расстройства созн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Амбулаторный автоматизм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(Фуга и транс) выключение сознания с автоматическими действиями и амнези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Двойная ориентиров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редовая (одновременно две личности или идет инсценировк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Особые состояния созн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ереализация, деперсонализа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Качественные расстройства созн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ключительные состояния созн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- Патологическое опьянени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уженное состояние сознания при употреблении минимальной дозы алкоголя с последующей амнези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- Патологический аффек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еадекватно сильная реакция, сужение сознания с агрессией и аутоагрессие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- Множественное созн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Verdana"/>
              </a:rPr>
              <a:t>РАССТРОЙСТВА</a:t>
            </a:r>
            <a:br>
              <a:rPr sz="6300"/>
            </a:br>
            <a:r>
              <a:rPr b="1" lang="en-US" sz="6300" spc="-1" strike="noStrike">
                <a:solidFill>
                  <a:srgbClr val="000000"/>
                </a:solidFill>
                <a:latin typeface="Verdana"/>
              </a:rPr>
              <a:t>ЛИЧНОСТИ</a:t>
            </a:r>
            <a:endParaRPr b="0" lang="en-US" sz="6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Личнос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 характеристики социальных и индивидуальных качеств человека, которые выражаются в его темпераменте, характере, образе его Я (самовосприятии) и способностя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Акценту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ярко-выраженные особенности лич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Расстройства зрелой личности и поведения у взрослы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патологические особенности личност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параноидное, шизоидное, диссоциативное, истерическое, ананкастное, тревожное и зависимое расстройств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Акцентуации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райние проявления нормальной лич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емонстративные лич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едантичные лич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астревающие лич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озбудимые лич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Интровертированные лич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Гипертимные лич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Гипотимные лич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нтисоциальные лич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рцистическая лич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7:27:02Z</dcterms:created>
  <dc:creator>Igor</dc:creator>
  <dc:description/>
  <dc:language>en-US</dc:language>
  <cp:lastModifiedBy>Igor</cp:lastModifiedBy>
  <dcterms:modified xsi:type="dcterms:W3CDTF">2016-01-21T09:01:41Z</dcterms:modified>
  <cp:revision>8</cp:revision>
  <dc:subject/>
  <dc:title>Расстройства сознания</dc:title>
</cp:coreProperties>
</file>