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21ED-C602-4D73-B2F7-CB1089CF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2F33-191A-4384-A584-8B0D8F24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4CF-A42D-471E-A0D6-0B793907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AC2E-FAE8-4AD2-BB6E-ECA57218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57F-A9DD-4FA2-B704-7F76C521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C4E-5617-41C9-A6DA-46C61A05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2AE-1379-4E0B-B4C6-71C18CA9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F28-3268-4B25-8ED6-E60523CD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28160"/>
            <a:ext cx="77709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814-2AA2-4966-91EF-258100D1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A23-B272-4FF2-9ED1-63F39EF3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18B-01B6-409A-A514-8300AD8F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581F-2D91-4475-9CBD-0A5B772F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043440" y="-329760"/>
            <a:ext cx="12185640" cy="7824240"/>
            <a:chOff x="-3043440" y="-329760"/>
            <a:chExt cx="12185640" cy="7824240"/>
          </a:xfrm>
        </p:grpSpPr>
        <p:sp>
          <p:nvSpPr>
            <p:cNvPr id="1" name=""/>
            <p:cNvSpPr/>
            <p:nvPr/>
          </p:nvSpPr>
          <p:spPr>
            <a:xfrm>
              <a:off x="1486080" y="-4320"/>
              <a:ext cx="3220200" cy="69105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1541520" y="-7560"/>
              <a:ext cx="3220200" cy="69040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403960" y="-2880"/>
              <a:ext cx="3224160" cy="69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20320" y="-11160"/>
              <a:ext cx="3856320" cy="689616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1324440" y="157680"/>
              <a:ext cx="6498360" cy="24487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0000">
              <a:off x="-38520" y="1224720"/>
              <a:ext cx="4717440" cy="1605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-1387440" y="81360"/>
              <a:ext cx="6498360" cy="24487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20000">
              <a:off x="-2909520" y="1463760"/>
              <a:ext cx="5587920" cy="28476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60000">
              <a:off x="925560" y="1459080"/>
              <a:ext cx="6665400" cy="27658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100000">
              <a:off x="1906920" y="1382400"/>
              <a:ext cx="6498720" cy="24487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342480" y="-7560"/>
              <a:ext cx="2018160" cy="36435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-1541520" y="6240600"/>
              <a:ext cx="10683720" cy="6872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486080" y="6314040"/>
              <a:ext cx="3220200" cy="6076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-1541520" y="6314040"/>
              <a:ext cx="322020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03960" y="6314040"/>
              <a:ext cx="3224160" cy="6076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20320" y="6314040"/>
              <a:ext cx="3856320" cy="6058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-1541520" y="6232680"/>
              <a:ext cx="10683720" cy="6872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250080" y="6253560"/>
              <a:ext cx="1919880" cy="6685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900000">
              <a:off x="1352160" y="6138720"/>
              <a:ext cx="1689120" cy="8884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900000">
              <a:off x="16560" y="6138720"/>
              <a:ext cx="1689120" cy="8884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900000">
              <a:off x="-1348560" y="6086880"/>
              <a:ext cx="1648080" cy="901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-473400" y="6239880"/>
              <a:ext cx="6587640" cy="687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-1096200" y="6239880"/>
              <a:ext cx="2847600" cy="687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090680" y="6316200"/>
              <a:ext cx="2468880" cy="6094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5849280" y="6239880"/>
              <a:ext cx="2847600" cy="687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4869720" y="6239880"/>
              <a:ext cx="4272480" cy="687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-1541520" y="6274080"/>
              <a:ext cx="10683720" cy="2088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0D0EE7-26E4-4BDA-B838-17101BAE7AC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136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 Black"/>
              </a:rPr>
              <a:t>Органические, в том числе симптоматические психические расстройства (F00 - F09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4000" y="333000"/>
            <a:ext cx="777060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гностические критерии сосудистой деменции включают общие признаки деменции, неустойчивые когнитивные нарушения, острое начало и (или) ступенчатое прогрессирование. Важно наличие неврологических знаков и симптомов, указывающих на очаг, а также сопутствующих симптомов в форме гипертензии, эмоциональной лабильности, преходящих эпизодов помраченного созн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риантами сосудистой деменции является деменция с острым началом, мулитиинфарктная деменция и подкорковая(субкортикальная) деменция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Деменция при болезнях, квалифи-цированных в других рубриках (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02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770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Деменция при болезни П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Деменция при болезни Крейпфельдта-Яко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Деменция при болезни Гетингто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Деменция при болезни Паркинсо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4000" y="333000"/>
            <a:ext cx="7770600" cy="57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ический амнестический синдром, не обусловленный алкоголем или другими психоактивными веществами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лирий, не обусловленный алкоголем или другими психоактивными веществам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F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стройства личности и поведения вследствие болезни, повреждения или дисфункции головного мозг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F0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096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Другие психические расстройства вследствие повреждения или дисфункции головного мозга либо вследствие физической болезни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(F06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000" y="2276280"/>
            <a:ext cx="7770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рганический галлюцин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рганическое кататоническое расстро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рганическое бредовое расстро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рганическое аффективное расстро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рганическое тревожное расстро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рганическое диссоциативное расстро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рганическое эмоционально лабильное (астеническое) расстро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7770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ение психических расстройств на органические и функциональные является условным,  и принято скорее говорить о степени объективизации психического расстройства данными дополнительных исследований (нейропсихология, КТ, ЭЭГ…), позволяющими связать мозговой субстрат, токсический агент и конкретное расстройст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ические расстройства можно условно разделить на эндогенные (болезнь Альцгеймера, хорея Гентингтона и так далее) и экзогенные (в результате опухоли, черепно-мозговой травмы, вирусного энцефалита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 экзогенным синдромам, характерным для органических расстройств, относятся 5 острых психотических реакций: сумерки, аменция, эпилептическое возбуждение или припадок, делирий, галлюциноз, которые вместе входят в состав острого мозгового синдро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еменц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индром хронического или прогрессирующего заболевания мозга, при котором нарушаются  высшие корковые функций, включая память, мышление, ориентировку, понимание, счет, способность к обучению, язык и суждения. Сознание не помрачено. Симптомы присутствуют не менее 6 месяцев, хотя возможно и более прогрессивное начало демен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 Black"/>
              </a:rPr>
              <a:t>Деменция при болезни Альцгеймера (F00)</a:t>
            </a: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770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ология при болезни Альцгеймера близка другим дементирующим процессам. Генетической причиной является дефект различных участков 21 хромосомы. Вероятно, болезнь является генетически гетерогенной, так как наблюдаются рецессивные и доминантные типы передачи. Дефект приводит к образованию в заднелобных отделах доминантного полушария скоплений бета-амилоида (амилоидные тельца, тельца Гленнера), которые нарушают микроциркуляцию. В патогенезе принимает участие дефицит ацетилхолинтрансферазы, понижение синтеза ацетилхолина и замедление нейрональной проводим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709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болевание чаще протекает прогредиентно, хотя возможны приступообразные варианты, связанные с сочетанием атрофии и сосудистой патологии. Продолжительность заболевания от 2 до 10 лет. При деменции с поздним началом (после 65) степень прогредиентности меньше, чем  при деменции с ранним началом (до 65 лет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инициальном периоде нередки затяжные и не поддающиеся терапии невротические состояния, затяжные депрессивные эпизоды, хронические параноидные состояния, в частности, с идеями ревности и ущерба, острые и преходящие психотические расстрой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ичное когнитивное снижение субъективно отмечает и сам больной, пытаясь его компенсиров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000" y="333000"/>
            <a:ext cx="7770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ранних этапах можно заметить своеобразное изменение мимики  -  “Альцгеймеровское изумление, " при котором глаза широко раскрыты, мимика удивления, мигание редкое. Ухудшается ориентировка в незнакомом месте. Возникают затруднения в счете, пись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лавным симптомом первой - манифестной стадии является прогрессирующее расстройство памяти, и реакция личности на когнитивный дефицит в форме депрессии, раздражительности, импульсив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дальнейшем расстройства памяти перестают осознаваться. Амнезия распространяется на привычные действия, пациенты забывают бриться, одеваться, умываться. Тем не менее, последней нарушается профессиональная памя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7770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второй стадии к амнестическим нарушениям присоединяются апраксия, акалькулия, аграфия, афазия, алексия. Пациенты путают правую и левую сторону, не могут назвать части тела. Возникает аутоагнозия, и они перестают узнавать себя в зеркал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можны эпилептические припадки и кратковременные эпизоды психоз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тья стадия – марантическая -  не специфична. Мышечный тонус обычно повышен. Пациенты погибают в состоянии вегетативной ко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7770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ерии диагностики болезни Альцгеймера:  наличие критериев деменции, постепенное начало с медленно наступающим слабоумием, отсутствие данных клинического или специального исследований в пользу другого системного или мозгового заболевания; отсутствие очаговой мозговой симптоматики на ранних этапах деменции, а также объективное подтверждение атрофии на КТ, МРТ, ЭЭГ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Е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непезил, Мемантин, Галантамин, Ривастигм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отропные и сосудистые препар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гадозы витаминов группы В, 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нитивные тренин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28160"/>
            <a:ext cx="77709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Black"/>
              </a:rPr>
              <a:t>Сосудистая деменция (F 01)</a:t>
            </a: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09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 главным этиологическим факторам относятся атеросклероз церебральных сосудов, гипертоническая болезнь, васкулиты, тромбоэмболии при эндокардитах, ревматизме и эндоартериитах, заболевания крови. Очаги определяется неврологически на ЭЭГ, КТ и МР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гнитивный дефицит связан с конкретной сосудистой катастроф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8:23:21Z</dcterms:created>
  <dc:creator>Pavel</dc:creator>
  <dc:description/>
  <dc:language>en-US</dc:language>
  <cp:lastModifiedBy>Igor</cp:lastModifiedBy>
  <dcterms:modified xsi:type="dcterms:W3CDTF">2016-01-27T14:37:21Z</dcterms:modified>
  <cp:revision>33</cp:revision>
  <dc:subject/>
  <dc:title>ЗАВИСИМОСТЬ (аддиктивность) </dc:title>
</cp:coreProperties>
</file>