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9E4-E025-45B4-AE4C-E2391A99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DFA-CA62-4510-9E6B-FD5A213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B99-F63C-4013-8011-76DA5F77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510-7CB5-4E18-9403-E501B812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74-3134-4F56-A007-BC604ACF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D53-9313-4C9A-930F-C7AB722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EC0-2D47-4459-BE41-05284E5F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50F-EC11-40A9-8127-A5BFE94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A67-AC78-4254-A788-C0ABAA6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16C-7B8F-491F-AB86-C88FA8A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F23-9D2E-4868-9F6B-174981C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693-0E06-4C43-9862-2380DFF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062725-7CC7-484F-BEFC-A2DBFE02E28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тройства ощущений и восприят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ллюцин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816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иятие объекта или сенсорного образа без наличия реального объекта, сопровождающееся уверенностью в том, что этот объект существ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 бывают элементарные, простые и сло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лементар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тдельные звуки (гул, треск, звон), вспышки света, запа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иболее типичны для эпиле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стые галлюцин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вершенные предметные образы (животные, лица, предметы) наблюдаемые в конкретном месте пространства. Ощущение локального движение чего-то под кожей в конкретной зоне. Характерны для органических нарушений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жные галлюцин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являются как динамические явления. Слышимый голос может комментировать события; видимый – перемещаться и производить различ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органам чувст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лятся так же, как и иллю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условиям возникнов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гипнагогические (засыпание) и гипнопомпические (пробужде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8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остранству возникновения – истинные и псевдогаллюци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тинные галлюцин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оецируются в естественном пространстве (голоса слышны на улице, образы четкие и непосредственно на линии взгля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севдогаллюцин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есно связаны с мышлением «мыслеобразы». Вторгаются в психику насильственно, как результат воздействия чужой воли или силы (зрительные образы прозрачны и нетелесны, голоса звучат внутри головы или вне пределов восприятия – отдаленная квартира, космо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ический автоматиз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управление чужой си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7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персон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816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своего Я. Ощущение трансформации собственной личности (эмоции, мышление, разум). Часто сопровождается страхом сойти с у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щепление своего я – наличие в себе нескольких лич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схемы тела – аномальное восприятие пропорций свое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ре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цвета окружающего мира. Преобладание синих и серых тонов при депрессии. Яркие цвета при мании. Красные и желтые при эпиле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формы и размеров (синдром Алисы в стране чудес) при интоксикациях и Орг. Пор. Ц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е темпа и времени. Окружающее может быстро изменяться (кадры кино) или наоборот возникает ощущение замедления течения времени. Чаще связано с переживанием различных эмоциональных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щу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стейший психический процесс, представляющий собой психическое отражение внешних или внутренних стимулов и раздражителей при участии нервной систем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ройства ощу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сихопатологии к данным расстройствам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естез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стез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естез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естезия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нестопа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нтом-симптом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иперестез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повышенная восприимчивость (сверхсильное восприятие света - астенопия, звука - гиперакузия, запаха, температуры). В младенческом и раннем возрасте ее невыраженные проявления считаются адекватными. Позднее, в патологии характерно для  состояний после перенесенных соматических заболеваний, черепно-мозговой травмы. Пациенты могут воспринимать шелест листьев под ветром подобным грохочущему железу, а естественный свет как очень ярк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ипостез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– снижение, ослабление чувствительности к сенсорным стимулам. Окружающее воспринимается блеклым, тусклым, неразличимым. Это явление типично в детском и подростковом возрасте для состояния оглушенности (например, при интоксикациях или пароксизмальных состояниях), депрессивных расстрой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есте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рата чаще всего тактильной чувствительности, или функциональное выпадение способности к восприятию вкуса, запаха, отдельных предметов, типично для диссоциативных (истерических) расстрой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аресте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щущение покалывание, жжения, ползания мурашек, одеревенелост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изованы в областях тела, соответствующих зонам Захарьина-Геда.Типично для соматоформных психических расстройств, соматических заболеваний и функциональных или органических поражений периферических нервов или сосудов. Парестезии обусловлены особенностями кровоснабжения и иннервации, чем отличаются от сенестопа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нестопат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мплексные необычные ощущения в теле с переживаниями перемещения, переливания, перетекания. Нередко вычурные и выраженные необычным метафорическим языком (перетекание жидкости внутри моз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нтом-синдр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мечается у лиц с утратой конечностей. Пациент ощущает боли или движения в отсутствующей конеч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81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нтез ощущений, позволяющих получать субъективное представление о внешнем ми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в нашей психике внешнего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расстройства восприя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ллю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аллюцин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8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ллю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27800" cy="52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скаженное, в какой-то мере ошибочное  восприятие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реально существующих объект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в звуке падающей воды (реально существующий стимул) слышится голос (иллюзорный образ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сновными характеристиками иллюзий являют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аличие объекта или явления, который подвергается искажению, например, визуального, аудиального или другого сенсорного образ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енсорный характер явления, то есть его связь с конкретной модальностью восприятия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скаженная оценка объект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ценка искаженного ощущения как реального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счезновение иллюзии после оценки мышлением или включения другой модальности, например, при визуальной иллюзии попытка прикосновения к объекту позволяет исключить иллюзорное восприяти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ложности иллюзии делятся н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лементарные, простые, сложные, парэйдол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бразы в череде облаков, рисунке ковра, иней на стекл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рганам чувств н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актильные, зрительные, ольфакторные, слуховые, проприоцептив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чинам возникновения н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преломление света, отражение звука)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г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особенности анализаторов – свечение вокруг фонарей при глаукоме)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чаще связаны с ожиданием – ложное узнавание в толпе)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йдети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вязанные с воображ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зникают в норме, характерны для невротических расстройств и ряда психотических расстрой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8:21:16Z</dcterms:created>
  <dc:creator>robik</dc:creator>
  <dc:description/>
  <dc:language>en-US</dc:language>
  <cp:lastModifiedBy>Пользователь Windows</cp:lastModifiedBy>
  <dcterms:modified xsi:type="dcterms:W3CDTF">2018-02-15T16:24:09Z</dcterms:modified>
  <cp:revision>22</cp:revision>
  <dc:subject/>
  <dc:title>Общая психопатология 2.</dc:title>
</cp:coreProperties>
</file>