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EC47-AB59-4584-9CB0-ADAD0F38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F6E5-5089-4858-B406-C46B5EB9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B617-5CAA-4B26-9030-F374A8C1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0E73-9DE5-4935-833C-3C5A0CF2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5511-0405-4BB2-B051-9AB118EA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AE15-62C3-4EA9-A066-2CF7F2E9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6BD3-EC0A-449E-85E7-40CAAFE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0BFF-BB82-4AF1-B626-C10BA3DC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AA70-BE8E-4216-BA5A-AC3FDBD8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0A02-1133-4269-8930-212F4C8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A008-82EB-44CD-8704-FA710DF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61AC-11B2-4FB3-A20E-329D9BB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3EE3-6C3D-4AAE-94A2-D38F139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773A-247A-4057-AA63-22A19612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B7F-5FE3-4EF2-B2BC-F7D5D5B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4A45-C7BF-4861-812B-9B8807A5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6357-7DCD-4471-B406-E80D8AA4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54E1-42A6-4A15-AD4F-8B56C848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20D7-B5C8-4E37-AD05-E67850E3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A764-419A-4548-BB36-43B445C0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935B-C6E3-4318-B4BC-52AD82BC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3D4D-BDEB-4374-BD14-2B76193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65DD-4891-4C96-90CD-C1536C9D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1EDF-C57E-4E2D-8CDD-AF080D09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BCC2-FA14-4628-8F09-6354335DB79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522F-DC58-4FB1-BCFC-7A3A93CB358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F4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Tahoma"/>
              </a:rPr>
              <a:t>Невротические, связанные со стрессом и соматоформные расстройст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6407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Специфические (изолированные) фоб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Развиваются в детском или подростковом возрас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трах ассоциирован с конкретным объектом, который был причиной реальной опасности в прошл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Фобии ограниченные строго определенными ситуациями и не возникающие вне таковых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боязнь животных (чаще собак), высоты, замкнутых пространств, экзаменов, грозы, темноты, полетов в самолетах, мочеиспускания и дефекации в общественных туалетах, приема определенной пищи, лечения у зубного врача, вида крови или повреждений, страх заболеть определенным заболеванием, страх вождения транспорта.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ругие тревожные расстр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0 – Паническое расстройство (эпизодическая пароксизмальная тревог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1 – Генерализованное тревожное расстро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2 – Смешанное тревожное и депрессивное расстро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3 – Другие смешанные тревожные рас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Паническое расстройст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вторяющиеся непредсказуемые приступы тяжелой тревоги (паники), не ограничивающиеся определенной ситуацией или обстоятель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паники спонтанное, хотя иногда провоцируются возбуждением, физическим напряжением, сексуальной активностью. Основные симптомы – внезапно возникающий сильный страх и чувство надвигающейся смерти, сопровождающиеся тахикардией, одышкой, потливостью, головокружением, чувтво нереальности происходящего. Больной пытается покинуть место, где возник приступ и ищет помощи. Длительность до часа, между приступами - тревожное ожидание повтор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Генерализованное тревожное расстройство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ефиксированная, стойкая тревога, жалобы на нервозность, дрожь, мышечное напряжение, потливость, головокружение и дискомфорт в эпигастральной обл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Носит генерализованный и стойкий характер, не ограничивается средовыми обстоятельствами. Страхи, что больной или его родственники скоро заболеют, или с ними произойдет несчастный случай, а также другие волнения и дурные предчув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чение волнообразное с тенденцией к хронифик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Более характерно для женщин. Часто связано с хроническим средовым стрес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F4</a:t>
            </a: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2 – </a:t>
            </a:r>
            <a:r>
              <a:rPr b="1" lang="ru-RU" sz="3400" spc="-1" strike="noStrike" u="sng">
                <a:solidFill>
                  <a:srgbClr val="ffffcc"/>
                </a:solidFill>
                <a:uFillTx/>
                <a:latin typeface="Tahoma"/>
              </a:rPr>
              <a:t>Обсессивно-компульсивное расстройство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0 – Преимущественно навязчивые мысли или размышления (умственная жвач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1 – Преимущественно компульсивные действия (обсессивные ритуал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2 Смешанные обсессивные мысли и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Black"/>
              </a:rPr>
              <a:t>Жалобы на повторяющиеся тягостные стереотипные, навязчивые (обсессивные) мысли, образы или влечения, воспринимающиеся как бессмысленные, которые в стереотипной форме вновь и вновь приходят на ум больному, и вызывают безуспешную попытку сопротив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Black"/>
              </a:rPr>
              <a:t>Они разнообразны по содержанию, но почти всегда неприятны для субъекта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 Black"/>
              </a:rPr>
              <a:t>Страх не устоять перед импульсом убийства (своего ребенка), совершить непристойный поступок, навязчивые богохульные образы или мысли, бесконечные квази-философские рассуждения по малосущественным альтернативам…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50560" y="277560"/>
            <a:ext cx="85690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реимущественно навязчивые мысли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«Умственная жвачк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56908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cc"/>
                </a:solidFill>
                <a:latin typeface="Arial"/>
              </a:rPr>
              <a:t>Преимущественно компульсивные действия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Компульсивные действия или ритуалы представляют собой повторяющиеся стереотипные поступки, смысл которых заключается в предотвращении каких-либо объективно маловероятных событи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Обсессии и компульсии переживаются как чужеродные, абсурдные и иррациональные. Пациент страдает от них, и им сопротивляется. Наиболее часто встречается навязчивый страх загрязнения (мизофобия), который сопровождается многочасовым мытьем; навязчивые сомнения, сопровождающиеся компульсивными проверками (закрыта ли дверь, выключен ли газ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F4</a:t>
            </a: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3 </a:t>
            </a:r>
            <a:r>
              <a:rPr b="1" lang="ru-RU" sz="3400" spc="-1" strike="noStrike" u="sng">
                <a:solidFill>
                  <a:srgbClr val="ffffcc"/>
                </a:solidFill>
                <a:uFillTx/>
                <a:latin typeface="Tahoma"/>
              </a:rPr>
              <a:t>Реакция на тяжелый стресс и нарушения идаптац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0 – Острая реакция на стре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1 Посттравматическое стрессовое расстрой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2 Расстройства адапт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20 – кратковременная депрессивная ре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21 – пролонгированная депрессивная ре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22 – смешанная тревожная и депрессивная  ре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23 – с преобладание нарушения других эмо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24 – с преобладание нарушения пове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25 – смешанное расстройство эмоций и пове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Расстройства, возникающие при исключительно сильном стрессовом жизненном событии или значительном изменении в жизни, приводящем к продолжительно сохраняющимся неприятным обстоятельствам, в результате чего развивается расстройство адаптации. Важным моментом является относительный характер психотравмы, то есть важно учитывать индивидуальную, часто особую уязвимость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глушенность с сужением сознания, снижением внимания, неадекватной реакцией на внешние стимулы, дезориентировка, поведение с чертами инфантильности (пуэрилизм) 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В дальнейшем - уход от ситуации вплоть до диссоциативного ступора или ажитация и гиперактивность (реакция бегства или фуга). Обычно проходит в течение часов или дн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3333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трая реакция на ст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Посттравматическое стрессовое расстройство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 Black"/>
              </a:rPr>
              <a:t>Отставленная (затяжная) реакция на стрессовое событие (боевые действия, катастрофы, изнасилование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ереживание травмы вновь и вновь во сне, мыслях и бодрствующем состоянии, при этом в воображении картина травмы может быть предметной и живой. Характерна  эмоциональная глухота ко всем остальным переживаниям в жизни, включая отношения с другими людьми, сопутствующие симптомы в виде вегетативной лабильности, депрессии и когнитивных нарушений. Отсутствие удовольствия от жизни и ее проявлений (ангедония).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Начало возникает вслед за стрессом, после латентного периода от нескольких недель до месяцев (редко более 6 месяцев)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Эта группа расстройств связана преимущественно с психологическими причинами и внешними факторами, при этом необходимо учитывать относительный характер психотравм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Раздражитель может быть однократный сверхсильный - острая психическая травма или многократно действующий слабый раздражитель - хроническая психическая травме или психотравмирующей ситуаци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слабляющие нервную систему заболевания - черепно-мозговые травмы, инфекции, интоксикации, заболевания внутренних органов и желез внутренней секреции, а также длительное недосыпание, переутомление, нарушение питания - все эти факторы предрасполагают к возникновению психогенных заболевани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Расстройства адаптаци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Расстройство, препятствующее социальному функционированию и продуктивности, возникающее в период адаптации  к значительному изменению в жизни или стрессу (потеря близких, переживание разлуки, миграция, положение беженца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Начало - в течение месяца после стрессового события, длительность - до 6 месяцев. Протекает как кратковременная депрессивная реакция продолжительностью до месяца, пролонгированная депрессивная реакция продолжительностью до 2 лет, смешанная тревожная и депрессивная реакция, а также реакция с преобладанием нарушений поведения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F4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4 – </a:t>
            </a: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Диссоциативные (конверсионные) расстройств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0 – Диссоциативная амнез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1 – Диссоциативная фу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2 – Диссоциативный ступ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3 – Трансы и состояния о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4 – Диссоциативные расстройства мотор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5 – Диссоциативные судорог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6 – Диссоциативная анестезия и утрата чувственного воспри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7 – Смешанные диссоциативные расстро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4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8 – Другие диссоциативные расстро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80 – синдром Ганз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81 – расстройство множественной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асстройства, которые выражаются в утрате сознательного контроля над памятью и ощущениями с одной стороны, и над контролированием движений тела - с другой. Старое название 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онверсионная истерия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Происхождение - психогенное, тесная связь по времени с травматическими событиями, неразрешимыми и невыносимыми событиями или нарушенными взаимоотношениями. Увеличение числа расстройств характерно для периода войн и конфликтов или природных катастроф. Они более типичны для женщин, чем для мужчин и для юношеского и подросткового возраста, чем для среднего возраст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F4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5 – </a:t>
            </a: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Соматоформные расстройств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5.0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Соматизированное расстро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5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 – Недифференцированное соматоформное расстро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5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 – Ипохондрическое расстро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5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3 – Соматоформная вегетативная дисфунк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30 – сердца и сердечно-сосудист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31 – верхней части ЖКТ  .32 – нижней части ЖК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33 – дыхательн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.34 – урогенитальной сис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45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 – Хроническое соматоформное болевое расстрой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торяющееся возникновение физических симптомов наряду с постоянными требованиями медицинских обследований, вопреки подтверждающимся отрицательным результатам и заверениям врачей об отсутствии физической основы для симптома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мотря на то, что возникновение и сохранение симптоматики тесно связано с неприятными жизненными событиями, трудностями или конфликтами, больной противится попыткам обсуждения возможности ее психологической обусловл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арактерно истерическое поведение, направленное на привлечение внимания, особенно у больных, которые негодуют в связи с невозможностью убедить врачей  в физической природе своего заболевания и в необходимости дальнейших осмотров и обследований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F48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– </a:t>
            </a: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Другие невротические расстройств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8.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Неврас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8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 – Синдром деперсонализации-де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8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8 – Другие специфические невротические расстр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8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9 – Невротическое расстройство неуточненн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Неврастен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Раздражительная слабость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» проявляется в повышенной раздражительности, утомляемости, утрате способности к длительному умственному и физическому напряжению. 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озможны два типа жалоб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Первый тип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- жалобы на повышенную утомляемость после умственной работы, невозможность сосредоточиться, непродуктивное мышление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Второй тип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– жалобы на физическую слабость и истощаемость, невозможность расслабитьс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При обоих типах расстройств характерно головокружение, мускульные боли, "неврастенический шлем" - своеобразное сдавление скальпа, раздражительность, отсутствие радости жизни, подавленность, тревожность, нарушение сна. Часто встречается повышенная чувствительность к звукам и свету, рези в глазах, ощущения неопределенной тревоги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Этиология и патогенез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зиологические объяснения невроза связаны со школой И.П.Павлова, согласно ей, невроз является результатом столкновения противоречивых стимулов, которые создают ситуацию неопределенности рефлекторного ответа; клиника, таким образом, есть результат конфликта между побуждения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ихевиористические объяснения предполагают трактовку невроза как закрепление цепи новых, патологических рефлекторных ответов в результате неправильного обучения к реагированию, то есть неправильные чувства и неправильное поведение есть результат нау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сихоаналитические и психологические школы склонны объяснять невроз фиксацией на конкретном механизме психологической защиты, который срабатывает в зависимости от опыта раннего детства, сформировавшегося на стадиях психосексуальности. Символика невроза есть символика скрытых бессознательных желаний. Психоаналитическая трактовка также расширяет невроз за границы нормы, и с точки зрения психоанализа все люди являются невротиками, поскольку все они находились или находятся (или будут находиться) в ситуации преодоления препятствий (фрустрации), которая приводит к срабатыванию механизмов защиты, часть из которых фиксируе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формационные теории связывают невроз с избытком или недостатком информации, а также с искажением информ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гласно биохимическим теориям, невротизация - результат избытка или парциального дефицита нейромедиаторов или гормонов, уровень которых определяется генетической нормой реакций, то есть пределами, допустимыми для данного индивида в связи с острым или хроническим стрессом. Отсюда, существуют неврозы, связанные с истощением (неврастения) и периодом гиперстимуляции (тревожно-фобические расстройства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сследования в области нейрофизиологии показали, что при некоторых неврозах может быть обнаружена органическая основа, которая проявляется как особый пароксизм, например, тревоги, страх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зистенциальные теории трактуют невроз как утрату плана и смысла существования, которая приводит к состоянию заброшенности и переживанию бегства от свободы выбор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F40 </a:t>
            </a:r>
            <a:r>
              <a:rPr b="1" lang="ru-RU" sz="3800" spc="-1" strike="noStrike" u="sng">
                <a:solidFill>
                  <a:srgbClr val="ffffcc"/>
                </a:solidFill>
                <a:uFillTx/>
                <a:latin typeface="Tahoma"/>
              </a:rPr>
              <a:t>Тревожно-фобические расстройств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0 – Агорафоб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1 – Социальные фоб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2 – Специфические (изолированные) фоб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8 – Другие тревожно-фобические расстрой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40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.9 – Фобическое тревожное расстройство неуточнен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иологической причиной является увеличение уровня катехоламинов, гиперстимуляция бета-адренэргических рецепторов и блокада рецепторов, связываемых бензодиазепинами и регулирующих метаболизм гамма-аминомасляной кислоты(ГАМК), а также повышение выброса серотонина. Расстройства имеют и генетическую осно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ояния возникают на особой психастенической конституциональной почве, для которой характерна мнительность, тревожность, эмоциональность, застенчивость, робость. Начало и фиксация расстройства происходят по типу условного рефлекс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начала страх возникает при наличии патогенной ситуации, затем при воспоминании и, наконец, заполняет все мышление, превращаясь в особую навязчивость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диничные приступы паники переживает до 10 % населения. Распространенность многократных  эпизодов тревожно-фобических расстройств до 1% населения. Соотношение женщин и мужчин 2: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и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являются конкретным навязчивым страхом и тревогой, возникающими в определенной ситуации, сопровождающимися вегетативной дисфункцией. В результате эти ситуации или объекты избегаются или переносятся с чувством страх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х при фобиях появляется лишь при определенных условиях и вне этих условий не возника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Агорафобия –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боязнь открытых пространст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егодняшний день в медицине это понятие включает в себя не только страх открытых пространств, но и страх сходных ситуаций. Как правило, тревога направлена на следующие ситуации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бывание, передвижение вне дом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 толпа, общественные места, общественный транспорт, открытые безлюдные пространства (например, поле, парк), путешествие в одиночестве, оживлённые места (например, митинги, продовольственные и вещевые рынки, магазины, рестораны), а также места, которые невозможно быстро покинуть, не привлекая к себе внимания окружающих (например, кресло парикмахера, центральные места в кинотеатре и т.п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Социальные фоби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Часто начинаются в подростковом возраст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Сконцентрированы вокруг страха испытать внимание со стороны окружающих в сравнительно малой группе, что приводит к избеганию общественных ситуаци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Изолированные (страх публичных выступлений, еды на людях, встреч с противоположным полом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Диффузные – почти все социальные ситуации вне семейного круга (часто ведут к почти полной социальной изоляции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7:31:58Z</dcterms:created>
  <dc:creator>Igor</dc:creator>
  <dc:description/>
  <dc:language>en-US</dc:language>
  <cp:lastModifiedBy>Igor</cp:lastModifiedBy>
  <dcterms:modified xsi:type="dcterms:W3CDTF">2016-02-22T13:34:06Z</dcterms:modified>
  <cp:revision>12</cp:revision>
  <dc:subject/>
  <dc:title>F4 Невротические, связанные со стрессом и соматоформные расстройства</dc:title>
</cp:coreProperties>
</file>