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65E1-AED3-49B6-9E91-688DA7BA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694A-D131-4732-9FB7-5D516B16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EDB8-63E2-40B1-A130-0A5759F4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9D2A-B7B9-4AFC-A455-4762436C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F6F3-80A8-4C91-85CB-361CAC4C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7752-B859-4FDE-8E92-0CA1A18F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4D55-0E82-4EB5-A7E5-ACBC2864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08E7-46AF-4933-9114-BF5C41E0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65E1-0C3A-4232-84F9-E68A9746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B75D-6BDD-431C-B809-7AC44430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7640-7AB7-47FE-BB97-67ACE0EF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70CF-EC66-40BF-9821-95B23273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A755-C013-407C-BE6D-E1C6BD7D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5A17-12BC-4194-BFE3-C037605B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4548-2513-4341-B175-C403BDC5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9670-140B-4DBC-A7E7-DBB6E72C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F9FF-F8F6-4E49-B775-FF808A98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F7B6-76CF-44B7-BF17-4AC9D0A1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5234-56E2-4C59-BE41-91614922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1DCE-C168-4478-82B8-56831D15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3962-1BC8-49C1-AB3B-A9B3E5E3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719F-1178-4EC3-A32F-58F27FE4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10A7-AE2D-4800-AB14-07E36A06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0910-E7EF-4E3F-842C-9AD7A1CA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DC35-05DC-4CE0-A503-18E0D5E8F4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7EF2-F1F9-441E-ADE6-752148BBE5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ddddd"/>
                </a:solidFill>
                <a:latin typeface="Arial"/>
              </a:rPr>
              <a:t>АФФЕКТИВНЫЕ РАССТРОЙСТВА НАСТРОЕНИЯ</a:t>
            </a:r>
            <a:br>
              <a:rPr sz="6000"/>
            </a:br>
            <a:r>
              <a:rPr b="1" lang="en-US" sz="6000" spc="-1" strike="noStrike">
                <a:solidFill>
                  <a:srgbClr val="dddddd"/>
                </a:solidFill>
                <a:latin typeface="Arial"/>
              </a:rPr>
              <a:t>F3</a:t>
            </a:r>
            <a:r>
              <a:rPr b="1" lang="ru-RU" sz="6000" spc="-1" strike="noStrike">
                <a:solidFill>
                  <a:srgbClr val="dddddd"/>
                </a:solidFill>
                <a:latin typeface="Arial"/>
              </a:rPr>
              <a:t>0- </a:t>
            </a:r>
            <a:r>
              <a:rPr b="1" lang="en-US" sz="6000" spc="-1" strike="noStrike">
                <a:solidFill>
                  <a:srgbClr val="dddddd"/>
                </a:solidFill>
                <a:latin typeface="Arial"/>
              </a:rPr>
              <a:t>F3</a:t>
            </a:r>
            <a:r>
              <a:rPr b="1" lang="ru-RU" sz="6000" spc="-1" strike="noStrike">
                <a:solidFill>
                  <a:srgbClr val="dddddd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нижение интересов и/или снижение удовольствия от деятельности, обычно приятной для больног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Отсутствие реакции на события и/или деятельность, которые в норме ее вызывают,  например, ранее огорчения женщине доставляло то, что ее супруг позже возвращается с работы, теперь ей это безразличн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Пробуждение утром за два или больше часа до обычного времени; после такого пробуждения обычно пациент продолжает пребывать в постел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 Депрессия тяжелее по утрам, к вечеру состояние улучша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 Объективные свидетельства заметной психомоторной заторможенности или ажитации (отмеченные или описанные другими лицами) - пациенты предпочитают одиночество или мечутся в беспокойстве, часто стону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. Заметное снижение аппетита, иногда бывает избирательность в предпочтении пищевых продуктов с акцентом на сладкое и углеводную пищ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нижение веса (пять или более процентов от веса тела в прошлом месяце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метное снижение либид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Рекуррентное депрессивное расстройство (F33)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Arial"/>
              </a:rPr>
              <a:t>Клиника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торные депрессивные эпизоды (легкий, умеренный или тяжелый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риод между приступами минимум  2 месяца, в течение которых не наблюдается каких-либо значимых аффективных симптом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должительность эпизодов 3-12 месяцев. Встречается чаще у женщин. Обычно к позднему возрасту отмечается удлинение приступов. Довольно отчетлив индивидуальный или сезонный рит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руктура и типология приступов соответствует эндогенным депрессиям. Дополнительные стрессы могут менять степень тяжести депресс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Дифференциальная диагностика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куррентное депрессивное расстройство следует дифференцировать с шизоаффективным расстройством и органическими аффективными расстройств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шизоаффективных расстройствах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 структуре продуктивных переживаний присутствуют симптомы шизофрени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рганических аффективных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сстройствах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имптоматика депрессий сопровождает основное заболевание (эндокринное, опухоль головного мозга, последствия энцефалита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Arial"/>
              </a:rPr>
              <a:t>Хронические (аффективные) расстройства настроения (F34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нные расстройства носят хронический и обычно неустойчивый характе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дельные эпизоды недостаточно глубоки, чтобы определить их как гипоманию или легкую депрессию. Длятся годами, а иногда и на протяжении всей жизни больно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агодаря этому напоминают особые расстройства личности типа конституциональных циклоидов или конституционально депрессивных. Жизненные события и стрессы могут углублять данные состоя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Циклотимия (F34.0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ли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асто с детства или подросткового периода отмечаются колебания настроения сезонного тип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ко этот диагноз считается адекватным лишь в постпубертате, когда нестабильное настроение с периодами субдепрессий и гипоманий длится не менее двух л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а клиника эндогенно воспринимается лишь как период вдохновения, необдуманных поступков или хандр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меренные и тяжелые депрессивные и маниакальные эпизоды отсутствуют, но иногда описываются в анамнез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линика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иод депрессивного настроения вырастает постепенно, и воспринимается как снижение энергии или активности, исчезновение привычного вдохновения и творческого потенциа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, в свою очередь приводит к снижению уверенности в себе и чувству неполноценности, а также социальной отгороженности, отгороженность проявляется также в сниженной разговорчив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является бессонница, пессимизм является устойчивым свойством характера. Прошлое и будущее оценивается негативно или амбивалент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ациенты иногда жалуются на повышенную сонливость и нарушение внимание, что мешает им воспринимать новую информац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линика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жным симптомом является ангедония по отношению к ранее приятным видам разрядки инстинкта (еда, секс, путешествия) или приятным видам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нижение активности деятельности особенно заметно, если оно последовало после повышенного настро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 не менее, суицидальных мыслей нет. Эпизод может восприниматься как период безделья, экзистенциальной пустоты, а при большой длительности оценивается как характерологическая чер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тивоположное состояние может стимулироваться эндогенно и внешними событиями, и быть также привязанным к сезон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повышенном настроении повышается энергия и активность, снижается потребность во с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орческое мышление повышается или обостряется, это приводит к повышению самооценки. Пациент старается продемонстрировать ум, остроумие, сарказм, скорость ассоциац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профессия пациента совпадает с самодемонстрацией (актер, лектор, ученый), то его результаты оцениваются как «блестящие», однако при невысоком уме повышенная самооценка воспринимается как неадекватная и смешна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ышается интерес к сексу и увеличивается сексуальная активност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ышается интерес к другим видам инстинктивной деятельности (еде, путешествиям, возникает сверхвовлечен-ность в интересы собственных детей, родственников, повышенный интерес к нарядам и украшениям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дущее воспринимается оптимистично, прошлые достижения переоцениваютс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 аффектом понимается яркое выражение эмоций, которое находит отражение в поведении, под настроением понимается сумма эмоций за определенный промежуток времени, которая часто, но не всегда проявляется в поведении и может успешно скрыва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 кругу аффективных расстройств наряду с маниями и депрессиями, относятся такие синдромы, как сезонное изменение веса, вечерняя тяга к углеводам, предменструальные синдромы, часть подростковой агрессивности, а также «северная депрессия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сихологическим аналогом циклотимии является творческая продуктивность А.С.Пушкина, который, как известно, отличался значительной продуктивностью осенью и снижением активности вдохновения весн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овы же периоды творческой продуктивности, охватывающие более продолжительный период были характерны для П.Пикасс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иклические ритмы настроения отчетливо зависят от длины светового дня, широты местности, это интуитивно улавливается пациентами в их стремлении к миграции и путешестви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Диагностика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ее двух лет нестабильного настроения, включающий чередующиеся периоды как субдепрессии, так и гипомании с или без промежуточных периодов нормального настро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ва года отсутствуют умеренные и тяжелые проявления аффективных эпизод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блюдаемые аффективные эпизоды по своему уровню ниже, чем легк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Диагностика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депрессии должны быть представлены не менее трех из следующих симптомов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нижение энергии или активност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ссонниц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нижение уверенности в себе или чувство неполноценност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рудности в концентрации внима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циальная отгороженность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нижение интереса или удовольствия от секса или приятных видов деятельност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нижение разговорчивост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ссимистическое отношение к будущему и негативная оценка прошл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Диагностика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ение настроения сопровождается не менее, чем тремя из следующих симптомов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ение энергии или активност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нижение необходимости во сн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енная самооценк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стренное или необычное творческое мыш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енная общительность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енная разговорчивость или демонстрация ум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ение интереса к сексу и увеличение сексуальных связей, других видов деятельности, доставляющих удовольств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ерхоптимизм и переоценка прошлых достиже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можны отдельные антидисциплинарные действия, обычно в состоянии алкогольного опьянения, которые оцениваются как «избыточное веселье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Дифференциальная диагностика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едует дифференцировать от легких депрессивных и маниакальных эпизодов, биполярных аффективных расстройств, протекающих с умеренными и легкими аффективными приступами, гипоманикальные состояния также следует отличать от начала болезни П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отношению к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егким депрессивным и маниакальным эпизода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это обычно удается сделать на основании данных анамнеза, поскольку нестабильное настроение при циклотимии должно определяться сроком до двух лет, для циклотимиков также не характерны суицидальные мысли, а периоды повышенного настроения у них социально более гармоничны. Циклотимические эпизоды не достигают психотического уровня, это их отличает от аффективных биполярных расстройств, кроме того. Циклотимики имеют уникальную анамнестическую историю, эпизоды нарушений настроения у них отмечаются очень рано в пубертат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менения настроения при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болезни П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тмечаются в позднем возрасте и сочетаются с более грубыми нарушениями социального функционир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Терапия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отвращение эпизодов нарушенного настроения при циклотимии осуществляется литием, карбамазепином или вальпроатом натрия. Эти же препараты могут применяться при лечении повышенного настроения, хотя в тех случаях, когда оно сопровождается повышенной продуктивностью, это вряд ли целесообразн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сниженном настроении показаны прозак, лечение депривацией сна и энотерап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огда эффект дают 2-3 сеанса закиси азота, амитал-кофеиновое растормаживание и внутривенное введение новока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Дистимия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(F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34,1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Этиолог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ипы личностей, у которых возникает дистимия, правильно было бы назвать конституционально-депрессив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и черты у них проявляются в детстве и пубертате как реакция на любую трудность, а в дальнейшем и эндогенн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линика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и плаксивы, задумчивы, и не слишком общительны, пессимистич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 влиянием незначительных стрессов в постпубертате, в течение не менее двух лет, у них возникают периоды постоянного или периодического депрессивного настро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межуточные периоды нормального настроения редко длятся дольше нескольких недель, все настроение личности окрашено субдепресси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ко уровень депрессии ниже, чем при легком рекуррентном расстройств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линика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жно выявить следующие симптомы субдепрессии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ижение энергии или активност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рушение ритма сна и бессонницу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ижение уверенности в себе или чувство неполноценност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удности в концентрации внимания, и отсюда субъективно воспринимаемое снижение памят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астую слезливость и гиперсензитивность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ижение интереса или удовольствия от секса, других ранее приятных  и инстинктивных форм  деятельност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увство безнадежности или отчаяния в связи с осознанием беспомощност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способность справляться с рутинными обязанностями повседневной жизн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ссимистическое отношение к будущему и негативную оценку прошлого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циальную отгороженность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ижение разговорчивости и вторичную депривац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Диагностика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менее двух лет постоянного или повторяющегося депрессивного настро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иоды нормального настроения редко длятся дольше нескольких нед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итерии не соответствуют легкому депрессивному эпизоду, поскольку отсутствуют суицидальные мыс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Этиология и патогенез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нетические причины заболев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иохимические причины (нарушение активности обмена нейротрансмиттеро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йроэндокринные причины (нарушении ритмики функционирования гипоталамо-гипофизарной, лимбической  системы и эпифиза, что отражается на ритме выброса релизинговых гормонов и мелатони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и утраты социальных контакт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лестрессовое нарушение адаптац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Arial"/>
              </a:rPr>
              <a:t>Диагностика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течение периодов депрессии должны быть представлены не менее трех из следующих симптомов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нижение энергии или активност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ессонниц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нижение уверенности в себе или чувство неполноцен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рудности в концентрации вним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астая слезливость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нижение интереса или удовольствия от секса, других приятных видов деятельност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увство безнадежности или отчая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еспособность справляться с рутинными обязанностями повседневной жизн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ессимистическое отношение к будущему и негативная оценка прошлого; социальная отгороженность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нижение потребности в обще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ddddd"/>
                </a:solidFill>
                <a:latin typeface="Arial"/>
              </a:rPr>
              <a:t>Маниакальный эпизод </a:t>
            </a:r>
            <a:r>
              <a:rPr b="1" lang="en-US" sz="4000" spc="-1" strike="noStrike">
                <a:solidFill>
                  <a:srgbClr val="dddddd"/>
                </a:solidFill>
                <a:latin typeface="Arial"/>
              </a:rPr>
              <a:t>F30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Гипомания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(F30.0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легкая степень мании, при которой изменения настроения и поведения долговременны и выраженны, не сопровождаются бредом и галлюцинаци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вышенное настроение проявляется в сфере эмоций как радостная безоблачность, раздражительность, в сфере речи как повышенная разговорчивость с облегченностью и поверхностными суждениями, повышенная контактность. В сфере поведения отмечается повышение аппетита, сексуальности, отвлекаемость, снижение потребности во сне, отдельные поступки, преступающие рамки морали. Субъективно ощущается легкость ассоциаций, повышение работоспособности и творческой продуктивности. Объективно увеличивается число социальных контактов и успешность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ffffff"/>
                </a:solidFill>
                <a:uFillTx/>
                <a:latin typeface="Arial"/>
              </a:rPr>
              <a:t>Мания без психотических симптомов (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F30.1</a:t>
            </a:r>
            <a:r>
              <a:rPr b="1" lang="ru-RU" sz="25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ышенное настроение сказывается на изменении норм социального функционирования, проявляется в неадекватных поступках, речевой напор и повышение активности не контролируется пациентом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ffffff"/>
                </a:solidFill>
                <a:uFillTx/>
                <a:latin typeface="Arial"/>
              </a:rPr>
              <a:t>Мания с психотическими симптомами (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F30.2</a:t>
            </a:r>
            <a:r>
              <a:rPr b="1" lang="ru-RU" sz="25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раженная мания с яркой скачкой идей и маниакальным возбуждением,  к которой присоединяются вторичные бредовые идеи величия, высокого происхождения, гиперэротичности,  ценности. Возможны  галлюцинаторные оклики, подтверждающие значимость личности или «голос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Arial"/>
              </a:rPr>
              <a:t>Дифференциальная диагностика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пертирео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орексия или лечение голода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оксикации алкоголем, амфетаминами, кокаином, канабис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чесие аффективные расстрой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изоаффективное расстрой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Биполярное аффективное расстройство </a:t>
            </a: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F3</a:t>
            </a: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болевание характеризуется повторными (не менее двух) эпизодами, при которых настроение и уровень моторной активности значительно нарушены - от маниакальной гиперактивности до депрессивной заторможен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раницы эпизодов определяются переходом в эпизод противоположной или смешанной полярности, или в интермиссию (ремиссию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ddddd"/>
                </a:solidFill>
                <a:latin typeface="Arial"/>
              </a:rPr>
              <a:t>Депрессивный эпизод </a:t>
            </a: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F3</a:t>
            </a:r>
            <a:r>
              <a:rPr b="1" lang="ru-RU" sz="4400" spc="-1" strike="noStrike">
                <a:solidFill>
                  <a:srgbClr val="dddddd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Депрессивная триада: снижение настроения, снижение моторной активности, замедление мыслительных функц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снижение способности к сосредоточению и внимани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снижение самооценки и уверенности в себ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идеи виновности и самоуничиж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мрачное и пессимистическое видение будущег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идеи или действия, приводящие к самоповреждению или суицид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нарушенный со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сниженный аппет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Arial"/>
              </a:rPr>
              <a:t>Соматический синдро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сширение зрачков, тахикардия, запоры, снижение тургора кожи и повышенная ломкость ногтей и волос, ускоренные инволютивные изменения (пациент кажется старше своих ле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матоформные симптомы: психогенная одышка, синдром беспокойных ног, дерматологическая ипохондрия, кардиальный симтом, расстройства желудочно-кишечного тракта, неопределенные головные боли, аменоррея и дисменоррея, боли в груди и, особенно, специфическое ощущение «камня, тяжести на груди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7:50:55Z</dcterms:created>
  <dc:creator>Психиатрия</dc:creator>
  <dc:description/>
  <dc:language>en-US</dc:language>
  <cp:lastModifiedBy>Igor</cp:lastModifiedBy>
  <dcterms:modified xsi:type="dcterms:W3CDTF">2016-02-21T13:45:31Z</dcterms:modified>
  <cp:revision>9</cp:revision>
  <dc:subject/>
  <dc:title>Рекуррентное депрессивное расстройство (F33) </dc:title>
</cp:coreProperties>
</file>