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6F2-C5B3-4864-B715-15E06D1E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D2C-B35D-455A-B16F-92F26F38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A5C-FE66-4461-A136-7AB3A8C6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C91-9C93-4C44-A124-75352B5A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7CE-ECAB-4B79-913E-C1DDEDB9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BB14-FFAE-49F2-9D36-A8AB78C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27C6-2C50-435D-BCB2-EF29C939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AD94-F2DE-4BEF-BEBD-D483C09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0251-FC7B-4BE5-A248-0371F192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B618-2112-47B2-82A3-E2C578B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614A-85E1-4743-9977-1BA667C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059-6EE2-4329-BDDE-2C23680E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C0F0-A343-41EC-ADEC-6600D5FB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77D5-FC2A-40E7-8286-3373A9C1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1EB0-7F65-47EB-97AE-999B4A9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050E-2BD7-4C8B-88BE-BC2BA467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072C-3EAE-443A-BDD0-9C051414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12B-54B9-4EA8-9417-395E01E7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739-082A-4319-A769-1B21D47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D40-100E-4847-B923-53253618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C09-2B5B-4D55-92D4-A3B191B7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233-E0FF-4C8C-90A3-53A73346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6A7-6DE1-4A9B-9AD6-30A1AD1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D8C-0599-45A7-8C53-B9BCD57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28C7-B7AF-44F5-BC6D-983C7144B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C208-791C-4AFA-A7FE-5D4F34C45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Двигательные</a:t>
            </a:r>
            <a:br>
              <a:rPr sz="6600"/>
            </a:b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 и волевые </a:t>
            </a:r>
            <a:br>
              <a:rPr sz="6600"/>
            </a:br>
            <a:r>
              <a:rPr b="1" lang="en-US" sz="6600" spc="-1" strike="noStrike">
                <a:solidFill>
                  <a:srgbClr val="ccecff"/>
                </a:solidFill>
                <a:latin typeface="Arial"/>
              </a:rPr>
              <a:t>расстройств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о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мление к целенаправленной деятельности, которая реализуется сознательно в достижении цели и бессознательно – в инстинктив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Волевые расстрой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ипербул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хваченность побуждением, повышенное влечение, расторможенность всех влеч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ипобу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нижение побуждений, желаний, влечений и моторной а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бул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тсутствие всех желаний и побуждений (до вегетативной ком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улим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вышение пищевого инстин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норекс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отказ от еды или особая избирательность в 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е полового инстин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е исследовательского инстинкта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еофилия и неофоб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е родительского инстинкта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ипо и гиперпротекция, жестокос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ицидальное пове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епт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ром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вигательные расстрой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сихомоторное возбу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сихомоторная затормож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тупо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засты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вигательная недостаточн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моторный инфантилизм) – неловкость, лишние некоординированные движения, неспособность совершать некоторые действия (писать, прыгать).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Эндокринная патология, депривация, огр. пор. ЦН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0:20:09Z</dcterms:created>
  <dc:creator>guide</dc:creator>
  <dc:description/>
  <dc:language>en-US</dc:language>
  <cp:lastModifiedBy>guide</cp:lastModifiedBy>
  <dcterms:modified xsi:type="dcterms:W3CDTF">2010-02-08T10:37:56Z</dcterms:modified>
  <cp:revision>3</cp:revision>
  <dc:subject/>
  <dc:title>Двигательные  и волевые  расстройства</dc:title>
</cp:coreProperties>
</file>