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57E-E128-40B0-BFF8-632E5A97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104-9FB1-42E2-BDF6-2EFB527B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11F-EC29-4F24-BB65-0A5AE32C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2A47-FF3B-4E4E-96A3-6E896178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B9F1-213F-450B-BDD0-FFF763FE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EDA-CEDB-4D9E-9C8B-BAADB35A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929C-283E-49A0-B2B8-87906FE8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261-4439-4CE9-8C1A-789CB396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28160"/>
            <a:ext cx="77709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395-38A7-49A7-8A4A-40211134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EA9A-5D53-4AA8-AFA5-8D0BDD9A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D94A-B8D5-43BC-A085-7C9BB060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AE35-EB86-4980-AC4B-590941AA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043440" y="-329760"/>
            <a:ext cx="12185640" cy="7824240"/>
            <a:chOff x="-3043440" y="-329760"/>
            <a:chExt cx="12185640" cy="7824240"/>
          </a:xfrm>
        </p:grpSpPr>
        <p:sp>
          <p:nvSpPr>
            <p:cNvPr id="1" name=""/>
            <p:cNvSpPr/>
            <p:nvPr/>
          </p:nvSpPr>
          <p:spPr>
            <a:xfrm>
              <a:off x="1486080" y="-4320"/>
              <a:ext cx="3220200" cy="69105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541520" y="-7560"/>
              <a:ext cx="3220200" cy="69040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403960" y="-2880"/>
              <a:ext cx="3224160" cy="69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20320" y="-11160"/>
              <a:ext cx="3856320" cy="689616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1324440" y="157680"/>
              <a:ext cx="6498360" cy="24487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0000">
              <a:off x="-38520" y="1224720"/>
              <a:ext cx="4717440" cy="1605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-1387440" y="81360"/>
              <a:ext cx="6498360" cy="24487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20000">
              <a:off x="-2909520" y="1463760"/>
              <a:ext cx="5587920" cy="2847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60000">
              <a:off x="925560" y="1459080"/>
              <a:ext cx="6665400" cy="27658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100000">
              <a:off x="1906920" y="1382400"/>
              <a:ext cx="6498720" cy="24487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342480" y="-7560"/>
              <a:ext cx="2018160" cy="36435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-1541520" y="6240600"/>
              <a:ext cx="10683720" cy="6872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486080" y="6314040"/>
              <a:ext cx="3220200" cy="6076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-1541520" y="6314040"/>
              <a:ext cx="322020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03960" y="6314040"/>
              <a:ext cx="3224160" cy="6076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20320" y="6314040"/>
              <a:ext cx="3856320" cy="6058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-1541520" y="6232680"/>
              <a:ext cx="10683720" cy="6872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250080" y="6253560"/>
              <a:ext cx="1919880" cy="6685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900000">
              <a:off x="1352160" y="6138720"/>
              <a:ext cx="1689120" cy="8884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900000">
              <a:off x="16560" y="6138720"/>
              <a:ext cx="1689120" cy="8884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900000">
              <a:off x="-1348560" y="6086880"/>
              <a:ext cx="1648080" cy="901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-473400" y="6239880"/>
              <a:ext cx="6587640" cy="687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-1096200" y="6239880"/>
              <a:ext cx="2847600" cy="687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090680" y="6316200"/>
              <a:ext cx="2468880" cy="6094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5849280" y="6239880"/>
              <a:ext cx="2847600" cy="687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4869720" y="6239880"/>
              <a:ext cx="4272480" cy="687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-1541520" y="6274080"/>
              <a:ext cx="10683720" cy="2088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38C26B-3C8D-4F9C-A7AA-3DF028BCDC5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ЭПИЛЕПСИЯ (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G</a:t>
            </a:r>
            <a:r>
              <a:rPr b="1" lang="ru-RU" sz="4400" spc="-1" strike="noStrike">
                <a:solidFill>
                  <a:srgbClr val="ffcc00"/>
                </a:solidFill>
                <a:latin typeface="Arial Black"/>
              </a:rPr>
              <a:t>40)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10920" y="2060640"/>
            <a:ext cx="7777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Эпилепс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- хроническое заболевание головного мозга различной этиологии, характеризующееся повторными припадками, возникающими в результате чрезмерных нейронных разрядов и сопровождающееся разнообразными клиническими и параклиническими симптомам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4000" y="333000"/>
            <a:ext cx="777060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пилептический статус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it 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Эпилептический статус абсансов)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1.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жный парциальный эпилептический статус (Эпилептический статус сложных парциальных приступов)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1.2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7770600" cy="56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смотря на многообразие этиологических факторов, а также синдромологическую неоднородность, эпилепсия остается единой нозологической единицей, где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главным обобщающим клиническим критерием является наличие повторяющихся приступо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диночные или случайные эпилептические приступы не могут рассматриваться как эпилепсия, а  являются, при понижении порога судорожной готовности, разновидностью реакций мозга и  могут возникнуть в определенных условиях у любого челове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7770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Эпилептический припадо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- приступ с внезапным началом, стереотипный по клиническим проявлениям, возникающий в результате нейронных разрядов, обнаруживаемых с помощью ЭЭГ, и проявляющийся в форме сенсорных, двигательных, аффективных, когнитивных и вегетативных симптом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096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Этиология заболевания может быть вызвана множеством экзогенных и эндогенных факторо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инято считать, что основными причинами являются наследственная предрасположенность, наличие эпилептического повреждения в мозге и локальных или генерализованных электрических изменени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ти примерно в 4 раза чаще болеют эпилепсией. Наиболее частыми причинами являются перинатальная патология и родовые травмы, врожденные пороки развития, метаболические нарушения и нарушения питания, инфекции. В среднем и пожилом возрастах в этиологии большую роль играют черепно-мозговые трамвы, сосудистые и дегенеративные заболевания мозга, опухоли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4000" y="333000"/>
            <a:ext cx="7770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пространенность эпилепсии в общей популяции составляет 7 - 10 случаев на 1000 населения. Риск развития эпилептических припадков на протяжении жизни составляет до 10%. Заболевание может развиваться в любом возрасте, однако в 75% эпилепсия начинается до 20-тилетнего возраста. Показатели заболеваемости среди мужского и женского пола практически одинаковы. Как минимум у 30% больных со временем возникают психические расстрой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7706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Классификация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7770600" cy="49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Локализационно обусловленные формы (Очаговые, фокальные, локальные, парциальны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Генерализованные формы эпилепс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Формы эпилепсии, не имеющие четкой классификации как парциальные или генерализован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Специфические синдром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Эпилептический статус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grand mal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c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удорожных припадков) (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G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41.0)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(Тонико-клонический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09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Причины, чаще встречающиеся у взрослых (опухоль мозга, энцефалит, церебро-васкулярная патология, черепно-мозговые травмы, интоксикации, алкоголизм, метаболические нарушения )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 детей этиологически доминируют менинго-энцефалические инфекции, врождённые аномалии развития, последствия церебральных повреждений, прогрессирующие нейродегенеративные заболевания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 новорождённых в подавляющем большинстве случаев статусы обусловлены нейрометаболическими нарушениями, инфекциями, кровоизлияниями в мозг, гипоксически-ишемическими энцефалопатиями, а в раннем грудном возрасте – острыми воспалениями и электролитными нарушениями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 пациентов с выявленной ранее эпилепсией наиболее частой причиной статусов является снижение концентрации АК в крови (неправильная смена терапии, отмена антиконвульсантов)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096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Терапия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691920"/>
            <a:ext cx="80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Этап 1 (0-10 мин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). Необходимо обеспечить функции дыхания и кровообращения, при необходимости – кислородный зон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). Определить концентрацию противоэпилептического препарата в кров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). Измерить температур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Этап 2 (30-40 мин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). Диазепам 20 мг (детям 0,2-0,4 мг/кг/м.т.)  ректально, или медленно внутривенно, или Клоназепам 2 мг (детям 0,01 – 0,04 мг/кг/м.т.) медленно внутривенно. Следует учитывать быстрое наступление действия (5-15 мин), однако, не только в плане противосудорожных эффектов, но и угнетения дыхания, седативного эффект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). Сразу после А) назначается внутривенно Фенитоин (детям – 10-15-20 мг/кг/м.т.), скорость инъекции – менее 50 мг/мин.  Следует учитывать, что максимальный эффект наступит через 20-30 мин. При падении АД, возникновении аритмии  скорость введения необходимо уменьшать. Часто первым симптомом интоксикации является нистаг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7770600" cy="56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евоспиимчивым» или резистентным (рефрактерным) считают статус, который продолжается 60 и более минут, несмотря на применение не менее двух антиконвульсантов первой очереди выб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енобарбитал (детям: 4-6-10 мг/кг/м.т.) вводится внутривенно, скорость введения – менее 100 мг/мин. Следует учитывать возможность угнетения дыхания, седативный эффект, большой период полувыведения из организм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докаин - инъекция вводятся ударной дозы 100-200 мг внутривенно, затем – инфузия 3-4 мг/кг. Следует учитывать возможность аритмии, падения АД, реакции идиосинкразии, немедленное действ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Этап 3.(рефрактерный статус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няется общая анестезия (наркоз), например, с помощью тиопентала, который проводится в отделении интенсивной терапии (реанимации). Наркоз необходимо продолжать 12-24 часа после последнего приступа. Лучше, конечно, постоянно регистрировать ЭЭГ с целью подавления “вспышек"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8:23:21Z</dcterms:created>
  <dc:creator>Pavel</dc:creator>
  <dc:description/>
  <dc:language>en-US</dc:language>
  <cp:lastModifiedBy>Igor</cp:lastModifiedBy>
  <dcterms:modified xsi:type="dcterms:W3CDTF">2016-01-26T19:52:43Z</dcterms:modified>
  <cp:revision>23</cp:revision>
  <dc:subject/>
  <dc:title>ЗАВИСИМОСТЬ (аддиктивность) </dc:title>
</cp:coreProperties>
</file>