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845-3243-4581-A35B-0F6D7D0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666-DCA3-49FA-A5E9-5D11976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E7E-26A6-40CF-9CAC-8A021D1A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908-3586-4F65-BB2C-2516A00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997-44D9-4264-80FA-B893DBC2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187-5ED7-4100-949A-3CF5408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397-3EDB-4E67-A426-767E822A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812-052F-42E7-BEDA-7B4D77E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5AA-8FC2-47CD-94D5-DF1422F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732-3D9E-44D7-803E-1364F6A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472-A6D4-444F-AD71-3636827C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6F6-A121-4F52-B9FF-E9DB45E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1F479A-C234-4109-9AA3-1DBEF853D45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АССТРОЙСТВО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ЭМОЦИЙ И АФФ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ержка развития интелл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условлена специфическими условиями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спитание психически больными  родителями, отсутствие нормального обучения, изоля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сихические состояния, отражающие субъективную реакцию организма на изменение окружающего мира или другого чел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нев, ненависть, любовь, зависть, ревность,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пресс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настроения, двигательной активности, замедление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вышение настроения, моторной активности, темпа мышления, трудоспособности, продуктивности, сексуальной активности. Снижение потребности во 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сфор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стояние немотивированной злобности, раздражительности, агр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йфор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безмятежности со стремлением к созерцанию. Облегч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кст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повышенное настроение с выходом за пределы себя. Эквивалент орг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стерянность с повышенной двигательной активностью, вегетативным компонентом, тремором, напря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держание афф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еспособность контролировать поведение, сопровождающее эмоции. Часто неадекватно раздраж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ая лаби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страя смена на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ая холод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особность  сопереживанию, 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лекситим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особность рассказать о своих чувствах и на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атковременное интенсивное экспрессивно яркое эмоциональное состояние, имеющее безотчетный и диффузный характер. «Безотчетный» означает, что сознательный контроль за своими действиями в состоянии аффекта снижен или отсутствует. «Диффузный» означает, что аффект может захватить и психические процессы, а не ограничиться самим по себе психическим состоянием. Аффект изменяет восприятие, мышление, волю, память. Чаще всего аффекты носят отрицательную (ярость, ужас, паника), но могут иметь и ярко выраженную положительную (восторг, энтузиазм, эйфория) окраску. Любая эмоция может перейти в стадию аффекта. Аффект может быть вызван как природными, так и общественными событ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5373720"/>
            <a:ext cx="8363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ержание афф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способность контролировать поведение, сопровождающее эмоции. Часто неадекватно раздраж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ССТРОЙСТВА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ИНТЕЛЛЕК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нтелл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гративная психическая функция, включающая способность к познанию, уровень знаний и способность их использовать. На его уровень влияют: генетика, среда, реализация потен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асстройства интелл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ственная от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м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ержка развити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мственная отстал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ный когнитивный дефицит. Критическая точка – возраст 3 лет. Если до этого возраста утрачивает (не приобретает) свои способности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сли после – демен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енетическ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енные и хромосомные аномалии, му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обрет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тератогенные, родовые травмы, болезни в первые три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нарастает, возможен даже рег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м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тенный когнитивный дефиц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унарная (очаговое слабоум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узная (глобальная деме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енции чаще всего носят прогре-диентный характер и они необрати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07:51:29Z</dcterms:created>
  <dc:creator>Igor</dc:creator>
  <dc:description/>
  <dc:language>en-US</dc:language>
  <cp:lastModifiedBy>Igor</cp:lastModifiedBy>
  <dcterms:modified xsi:type="dcterms:W3CDTF">2016-01-21T09:11:53Z</dcterms:modified>
  <cp:revision>7</cp:revision>
  <dc:subject/>
  <dc:title>РАССТРОЙСТВО  ЭМОЦИЙ И АФФЕКТА</dc:title>
</cp:coreProperties>
</file>