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F4C-0383-4281-BD95-37438C88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905-3E4E-4CA9-97CC-3EE6223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28B-4D93-4519-BB2B-DA0CFC7C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1D2-2841-4194-8B17-60B0C7FF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840-42F8-41BD-AA4D-F62671E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0FF-0E20-4FA1-AA05-41066EB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EB7-BB69-44D1-8319-A9A4014C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F96-ADB2-4A36-A81E-141D5B5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F49-E917-4F1B-8324-107832E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ECA-EE63-4617-B2C5-5AA4872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C87-73A7-4E42-91DA-E1A2E259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34A-F806-4F39-A9A1-5DA7902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0190-0D42-4723-8741-EF9516F2B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РОЙСТВА 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тройства мышления по содерж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относ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ффективное мышл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гоцентрическое мышл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ноид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рхценное мыш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ессив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ффективн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ся преобладанием в мышлении эмоционально окрашенных представлений, высокой зависимостью мышления от окружающих, быстрой реакцией мыслительного и неотделимого от него эмоционально процесса на любой, часто незначимый стимул (аффективная неустойчив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ффективное мышление характерно для пациентов, страдающих расстройствами настроения (депрессивное или маниакальное мыш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суждений и представлений при аффективном мышлении полностью определяется ведущими желаниями и настро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гоцентрическ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типе мышления все суждения и представления фиксированы на нарцистическом идеале, а также на том, то полезно или вредно собственной личности. Остальные, в том числе социальные представления, отметаются. Эгоцентрические черты как правило являются  нормативными для детского возраста Такой тип мышления часто формируется у зависимых личностей, а также при алкоголизме и наркоманиях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ясно, что они все от меня требуют, родители считают, что я должен учиться, Н., с которой я дружу, что мне нужно лучше выглядеть. Кажется, что никто меня по настоящему не понимает. Если я не учусь и не работаю и не хочу зарабатывать денег, то выходит я и не человек, но ведь я никому не мешаю, делаю только то, что мне нравится. Всем не угодишь, а собаку пусть сами выгуливают, она их больше лю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ноидн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лежат бредовые идеи, сочетающиеся с подозрительностью, недоверчивость, ригид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ед – ложное умозаключение, возникающее на болезненной основе, например, он может быть вторичным от измененного настроения, повышенного или пониженного, галлюцинаций, или первичным, в результате формирования особой, понятной лишь самому пациенту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механизму образования бред делится 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ервич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н связан с интерпретацией и построением поэтапной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торич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образный, чувственный) – связанный с формирование целостных образов, например, под влиянием измененного настроения или галлюци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индуцирован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ри котором реципиент, будучи здоровым человеком, воспроизводит бредовую систему индуктора, психические больн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держанию выделяются следующие варианты бредовых и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еи отношения и значения (особого значения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развиться не ранее препубертатного возраста в виде подозрительности к отдельным лицам (родителям, педагогам, соседям). Они смотрят на него по особенному, намекают своим поведением на его особое предназначение. Он находится в центре внимания и истолковывает явления окружающего, ранее не значимы для него, как существенные. Например, он связывает поведение ведущего теле - или радиопередачи, номера машин, взгляды прохожих, случайно оброненные предметы, обращенные не к нему слова как намеки, имеющие отношение к нему самому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деи преследования (персекуторный бред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циент считает, что за ним следят, находит множество подтверждений слежки, постепенно замечая, что круг преследователей расширяется. В дошкольном и младшем школьном проявляется в стойких страхах и убежденности, что животные, чудовища или бандиты хотят его убить. Однако систематизация возникает лишь к пубертатному возрасту. В систему преследования могут включаться идеи отравления. Пациент считает, что ему добавляют яд в пищу, травят воздух или подменивают предметы, которые предварительно обрабатывают ядом. Другой вариант – в сочетании с идеями воздействия, управления его мыслями, настроением, желаниями и поведением обозначается бредом воздействия. Возможен также транзитивный бред преследования, при этом пациент сам начинает преследовать воображаемых преследователей, применяя против них агресс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еи велич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аются в убежденности пациента в наличии у него могущества в виде исключительной возможности, силы благодаря божественному происхождению, огромного богатства, исключительных достижений в сфере науки, искусства и т.п. Обычно проявляется в школьном возрасте развиваясь из бредоподобных фантазий о наличии у них особых предметов, волшебных способностей и т.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деи винов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самообвинения – обычно формируются на фоне сниженного настроения. Пациент убежден в том, что виновен своими поступками перед близкими и обществом, его ожидают наказание, смерть. В допубертатном возрасте, проявляясь при   подавленном, тоскливом настроении при острых психотических состояниях, депрессивном состоянии, выражается в недовольстве собой, требованиях лишить их подарков, избиения. Однако оформленные идеи самообвинения и самоуничижения разворачиваются лишь в подростковом возрас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 Ипохондрический бр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циент интерпретирует свои соматические ощущения, парестезии, сенестопатии как проявление неизлечимого заболевания. В дошкольном возрасте эквивалентом можно считать постоянное, конкретное опасение будущей болезни. В дальнейшем эти опасения становятся еще более нелепыми, некоррегирумыми. Происходит бредовая интерпретация любого соматического проявления и подросток фиксируется на «больном органе», слабом здоровье, что сопровождается убежденностью в тяжелом, неизлечимом заболе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 Нигилистический бр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бред Котара) – пациент уверяет, то у него отсутствуют внутренности, они «сгнили», аналогичные процессы происходят и в окружающем – весь мир мертв или находится на различных этапах разложения. В доподростковом возрасте может встречаться в виде рудиментов (например, высказывания детей в том, что у них из тела чем-то противным пахнет, в животе и груди пусто). В некоторых случаях подобные жалобы и высказывания необходимо дифференцировать с индукцией от фильмов-ужасов, когда дети говорят, что они зомби-трупы, ожившие мертве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сморфоптический бре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дисморфоманический, бред физического недостатка) – подросток убежден в том, что у него (нее) изменена форма лица, существует аномалия тела (чаще всего гениталий), отказывается посещать школу, настаивает на хирургическом лечении аномал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 меня такое некрасивое лицо, что я не могу смотреть на него в зеркало. Я хотел бы, чтобы мне хотя бы исправили мои маленькие «свинячьи» глаза, чтобы я смог смотреть на других детей и они не смеялись, глядя в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- Бред одержим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ключается в том, что пациент ощущает себя превращенным в животное, например, в волка (ликантропия), в медведя (симптом Локис), в вампира или в неодушевленный предмет. В детском возрасте труднодифференцируемое состояние за счет игровой охваченности детей со сверхценным фантазированием, индукцией видеопромышленности. В подростковом возрасте бред метаморфозы (превращения) может касаться ощущения переделывания в лицо другого пола в сочетании с сенестопатиями, галлюцинациями (тактильными, общего чувства). Чаще (особенно в детском возрасте) имеет место не превращение, а вселение внутрь организма че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рхценное мыш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ключает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ерхценные иде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е не всегда являются ложными умозаключениями, развиваются у особых стеничных личностей, однако они сверхдоминируют в их психической жизни, вытесняя все остальные мотивы, критика к ним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ниверсальная модель интелл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включает операционный уровень, продуктивность и содержание. Оперативный уровень состоит из памяти, мышления, способностей к конвергенции и дивергенции идей, проведению отвлечения (абстрагирования). Продуктивность интеллекта состоит в способностях к объединению идей в группы, классы, системы, отношения.  Содержание интеллекта может быть вербальным (запас слов и оперирование ими), невербальным (стратегии поведения и их использование), символическим и семан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сессивное мыш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ревшее – навязчивые идеи, идеаторные навязчив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ся стереотипно повторяющимися мыслями, представлениями, воспоминаниями, действиями, страхами, ритуалами, которые возникают помимо воли пациента, обычно на фоне трев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к ним, в отличие от бреда и сверхценных идей, существует полная критика, как к чуждым явлениям. Навязчивые мысли могут выражаться в повторяющихся воспоминаниях, сомнениях, например, в воспоминаниях об услышанной мелодии, оскорблении, навязчивых сомнениях и перепроверке записей, выключенных приборов, закрытой двери. Навязчивое влечение также сопровождается навязчивыми мыслями, которые должны быть импульсивно выполнены, например, навязчивое воровство (клептомания), поджоги (пирома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вязчивые мысли могу приводить к фобиям, то есть навязчивым страхам, например, страхам людных мест и открытых пространств (агорафобия), закрытых пространств (клаустрофобия), загрязнения (мизофобия), боязни заразиться конкретным заболеванием (нозофобия), и даже страхе страха (фобофоб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стройства мышления по струк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подразделять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системы логики (паралогическое мышление).Е.А. Шевалев подразделяет его на прелогическое, аутистическое, формализующее и идентифицирующее. Каждый из этих типов мышления основан на собственной лог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плавности и связности мыш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плавности и связности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орфность мыш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ается в присутствии связности между собой по смыслу отдельных частей предложения и даже отдельных предложений при ускользании общего смысла сказанного. Создается впечатление, что пациент «плывет», или «растекается», будучи не в состоянии выразить общую мысль сказанного или прямо ответить на вопрос.  Характерно для шизоидных расстройств личности и акцен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но-конкретн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ное для лиц с умственной отсталостью, выражается примитивной речью с формальной логикой. Например, на вопрос - как вы понимаете поговорку  «Яблоко от яблони недалеко падает?»,  отвечает: «яблоки всегда падают недалеко от дерева». Характерно для умственной отсталости и демен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стоятельное 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характеризуется детализацией, вязкостью, застреванием на отдельных деталях. При ответах даже на простой вопрос пациент пытается бесконечно углубиться в мельчайшие подробности. Характерно для эпилеп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онерское мыш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ражается в рассуждательстве по поводу вопроса вместо прямого ответа на вопрос.  Характерно для шизотипических расстройств, шизофрении и акцен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матическое соскальзы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ется внезапным изменением темы разговора и отсутствием связи между произносимыми предложениями. Например, на вопрос «Сколько у вас детей?» пациент отвечает «У меня двое детей. С утра я, кажется, переел». Тематическое соскальзывание является одним из признаков особой структуры мышления и речи – шизофазии, в которой вероятна паралогическая связь между отдельными предложениями. В вышеприведенном примере, в частности,  указанная связь  устанавливается между детьми и тем, что они отказались от еды утром, поэтому пациент сам ее съ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ышл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построения образа окружающего мира и ег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мыслительными процессами являются формирование понятий (символов), суждений и умозаклю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сс мышления формируется в результате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ловеческом обществе социо-культуральное окружение формирует мотивацию процесса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4360" y="2421000"/>
            <a:ext cx="76960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ятия  (простые и сложны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Су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Умозаклю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бъект 2"/>
          <p:cNvSpPr/>
          <p:nvPr/>
        </p:nvSpPr>
        <p:spPr>
          <a:xfrm>
            <a:off x="324000" y="476280"/>
            <a:ext cx="7777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Unicode MS"/>
              </a:rPr>
              <a:t>Основные формы логического мыш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62000" y="620640"/>
            <a:ext cx="87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9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9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93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560" y="1125360"/>
            <a:ext cx="88930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103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Arial"/>
              </a:rPr>
              <a:t>Понятие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это символическое обобщённое представление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едметов, людей или событий, имеющих по меньшей мере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одну общую черту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28600" indent="1033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хватывает собой совокупность определённых существенных признаков и правил, связывающих эти признаки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724280"/>
            <a:ext cx="882036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10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понятий – составная часть мышления, одна их самых важных познавательных функций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719280" y="1540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ФОРМЫ МЫСЛИТЕЛЬНЫХ ПРОЦЕ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560" y="333000"/>
            <a:ext cx="856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уждени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а мышления, отражающая связи между предметами или явлениями. Суждение является основной формой, в которой совершается мыслительный процесс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ыслить о чем-либо –  значит судить об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24000" y="3357720"/>
            <a:ext cx="8569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бота мысли над суждением, направленная на установление и проверку его исти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4840" y="4724280"/>
            <a:ext cx="849636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форма мышления, при которой на основании нескольких суждений делается определенный выв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расстройств мыш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условно разделяют на расстройства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скоренное, замедленное мышление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разорванное, паралогическое, обстоятельное, шперрунг, ментиз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ержани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авязчивые, сверхценные и бредовые иде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ройства мышления по темп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скорение мыш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характеризуется ускорением темпа речи, скачкой идей, которые при значительной выраженности темпа не успевают быть высказанным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a idear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Часто идеи носят продуктивный характер и ассоциированы с высокой творческой активностью. Симптом характерен для маний и гипом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оит подумать об одном,  и сразу появляется желание рассказать о деталях, но потом появляется новая идея. Все это не успеваешь записывать, а если записывашь, то появляются опять новые мысли. Особенно интересно ночью, когда никто не мешает, а спать не хочется. Кажется, что за час можешь написать целую кни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медление мышл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уменьшение количества ассоциаций и замедление темпа речи, сопровождающееся трудностью в подборе слов и формирование общих понятий и умозаключений. Характерно для депрессий, астенических симптомов, отмечается также при минимальных расстройствах созн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т опять меня что-то спросили, а мне нужно время, чтобы сосредоточиться, так сразу я не могу. Все сказал и мыслей больше нет, приходится повторять опять все с начала, пока не устану. Когда спрашивают о выводах,  вообще нужно долго думать и лучше,  если будет домашнее за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ментизм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наплыв мыслей, который нередко носит насильственный характер. Обычно такие мысли разноплановые и не могут быть высказа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шперрунг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«закупорка» мыслей, воспринимается пациентом как обрыв мыслей, внезапная пустота в голове, замолкание. Шперрунг и ментизм характерны больше для шизофрении и шизотипических расстройст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1:52:11Z</dcterms:created>
  <dc:creator>robik</dc:creator>
  <dc:description/>
  <dc:language>en-US</dc:language>
  <cp:lastModifiedBy>Пользователь Windows</cp:lastModifiedBy>
  <dcterms:modified xsi:type="dcterms:W3CDTF">2018-02-15T16:28:23Z</dcterms:modified>
  <cp:revision>20</cp:revision>
  <dc:subject/>
  <dc:title>РАССТРОЙСТВА МЫШЛЕНИЯ</dc:title>
</cp:coreProperties>
</file>