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090-2A33-4A8B-AA34-EB645B3C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3F56-FCB3-4561-A15F-0CEFFCC9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F49-91A3-4DD6-B1B4-066E1D04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C89C-7CBB-42F0-AA22-B585C0F8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5462-12FF-499A-BA93-9B7C104B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BDB8-DBE7-4080-BEF1-FC5BBC3B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BCE2-3815-41D1-9487-3DA2D158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D58-ACE1-4927-BD0B-14765041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F316-B60D-45A5-AF64-39E186B0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D87-D585-4F53-AD4D-A202A9AB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8D9A-346A-4C17-957E-1CF8AE96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7364-641E-4A76-9493-E4A739B3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645F-0060-464A-AFA2-10583598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E412-77CF-4828-8729-C3695D73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CD05-F941-4C41-B6A9-A4CBA293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AC1C-3E96-451D-AE4C-A14F6795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55C3-A043-416F-9298-A732707F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7443-3941-48B6-BCB4-2BEC1DE1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89A0-757E-4849-B58A-09063AC4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7E6F-29BA-4DEC-AC6E-9C72B8BC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0A07-89DE-45CA-8C8D-C54F55A8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6C62-ED43-48ED-A404-FEFA98F5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F967-8AE9-4CCE-AF23-BE615386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F2A7-D425-4B22-92E8-6B4B5987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089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A3728E-3E86-4E81-889F-FEB8F30AAE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5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2DE841-FA6E-4732-BECF-9606151C0E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24000" y="1052640"/>
            <a:ext cx="828036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Шизофрени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шизотипические 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бредовые расстрой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F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24000" y="260280"/>
            <a:ext cx="85104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c360e"/>
                </a:solidFill>
                <a:latin typeface="Arial"/>
              </a:rPr>
              <a:t>Шизофрения F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1680" y="981000"/>
            <a:ext cx="85392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20.0 – Параноидная шизоф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20.1 – Гебефренная шизоф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20.2 – Кататоническая шизоф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20.3 – Недифференцирова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изоф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20.4 – Постшизофреническая депр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20.5 – Резидуальная шизоф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20.6 – Простая шизоф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20.8 – Другие формы шизофр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20.9 – Шизофрения неуточн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24000" y="260280"/>
            <a:ext cx="85104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c360e"/>
                </a:solidFill>
                <a:latin typeface="Arial"/>
              </a:rPr>
              <a:t>Типы течения шизофр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907920"/>
            <a:ext cx="853884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и классификации используют пятый зн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20.x0 – непрерыв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20.x1 – эпизодический с нарастающим дефек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20.x2 – эпизодический со стабильным деффек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20.x3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эпизодический ремитирую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20.x4 – неполная реми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20.x5 – полная реми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20.x8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друг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20.x9 – период наблюдения менее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278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3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21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Шизотипическое расстрой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2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Хронические бредовые расстрой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2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Острые и транзиторные психотические расстрой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23.0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Острое полиморфное психотическое   расстройство без симптомов шизофре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23.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трое полиморфное психотическое расстройство с симптомами шизофре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23.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Острое шизофреноподобное психотическое расстрой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24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Индуцированное бредовое расстрой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25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Шизоаффективное расстрой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gor</cp:lastModifiedBy>
  <dcterms:modified xsi:type="dcterms:W3CDTF">2016-01-28T14:23:42Z</dcterms:modified>
  <cp:revision>5</cp:revision>
  <dc:subject/>
  <dc:title>Слайд 1</dc:title>
</cp:coreProperties>
</file>