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439CC-3159-4ECE-9337-087C1BB5C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C54B5-E323-46E7-8ACD-5C27E450B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59528-7566-48C7-9DAC-BCAD594D7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B3BA1-F6A1-44E1-9706-EF3585298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C5C8F-80C4-4169-AE70-73235345A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CE5F6-DCC2-4F8F-8AF1-421014447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2C90A-610D-4977-9AC4-FB0C524BE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E2C02-92E0-4593-86BA-AC8A76337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36807-E9AA-4B31-878C-FE06E06DA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40E58-E1F6-4E3A-A138-A066ED92B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20887-89D1-4B7F-91B1-A628F6BB5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37021-BEDD-4A1A-AEDD-CB0ED2F8A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E74BE-91A9-4CFC-8932-7F2C93EE2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1A8E6-7FF1-4D27-8304-DB4C79BE6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A3661-08C8-452C-AD93-0A7C7BB27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080FD-95AD-47D9-8ABA-BB312581B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CE2FD-261C-468B-861F-765D31CC6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B7357-53A7-4A98-BAD1-158739108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5D141-50DC-43FE-83B3-48E028225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AED54-ED44-4445-9040-7C1019468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514E3-39DA-485C-A51A-488DFC954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FD3DC-6594-4CFC-9552-9C57B4DA2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FEC4E-7995-4C6B-ACB7-50BB7BD3E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8FD6E-E7A0-4108-8B1C-A89376FBB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1875A-4588-4234-B48D-655E877A5F3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EB9AE-C272-4BAE-A08B-4835A13D676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95280" y="692280"/>
            <a:ext cx="835344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7e7ff"/>
                </a:solidFill>
                <a:latin typeface="Arial Black"/>
              </a:rPr>
              <a:t>F1</a:t>
            </a:r>
            <a:br>
              <a:rPr sz="4800"/>
            </a:br>
            <a:r>
              <a:rPr b="0" lang="en-US" sz="3200" spc="-1" strike="noStrike">
                <a:solidFill>
                  <a:srgbClr val="b7e7ff"/>
                </a:solidFill>
                <a:latin typeface="Arial Black"/>
              </a:rPr>
              <a:t>ПСИХИЧЕСКИЕ И ПОВЕДЕНЧЕСКИЕ</a:t>
            </a:r>
            <a:br>
              <a:rPr sz="3200"/>
            </a:br>
            <a:r>
              <a:rPr b="0" lang="en-US" sz="3200" spc="-1" strike="noStrike">
                <a:solidFill>
                  <a:srgbClr val="b7e7ff"/>
                </a:solidFill>
                <a:latin typeface="Arial Black"/>
              </a:rPr>
              <a:t> РАССТРОЙСТВА ВСЛЕДСТВИЕ УПОТРЕБЛЕНИЯ ПСИХОАКТИВНЫХ ВЕЩЕСТВ</a:t>
            </a:r>
            <a:endParaRPr b="0" lang="en-US" sz="32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F10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лкогол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F11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пиодид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F12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аннабиоид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F13  седативных и снотворных вещест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F14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окаи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F15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других стимуляторов, включая кофеи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F16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галлюциноген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F17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аба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F18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летучих растворителе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F19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очетанного употребления наркотиков и использования других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сихоактивных веществ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F1х.0     Острая интоксикаци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0    без осложнений; симптомы зависят от дозы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1    с травмой или другим телесным повреждением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2  с другими медицинскими осложнениями: напр., с кровавой рвотой, аспирацией рвотных масс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3    с делирием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4    с расстройствами восприятия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5    с комой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6    с судорогами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7    патологическое опьянение(только для алкоголя)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F1х.1   Употребление с вредными последствиями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Модель употребления психоактивного вещества, вызывающего вред для здоровья. Вред может быть физическим (гепатит и пр.) или психическим (вторичная депрессия после алкоголизации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. Наличие непосредственного ущерба, причиненного психике или физическому состоянию потребителя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. Наличие негативных социальных последствий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457200" y="18864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F1х.2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Синдром зависимости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. Сильная потребность или необходимость принять вещество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. Нарушение способности контролировать прием вещества, т.е. начало употребления, окончание или дозировку употребляемых веществ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. Состояние отмены (см. F1х.3 и F1х.4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4. Повышение толерантност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5. Прогрессирующее забвение альтернативных интересов в пользу употребления вещества, увеличение времени, необходимого для приобретения, приема вещества или восстановления после его действи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6. Продолжение употребления вещества несмотря на очевидные вредные последствия, такие как повреждение печени, депрессивные состояния после периодов интенсивного употребления вещества, снижение когнитивных функций вследствие употребления наркотик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0   в настоящее время воздержание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1   в настоящее время воздержание, но в условиях , исключающих употребление (в госпитале, тюрьме и т.д.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2   в настоящее время под клиническим наблюдением, на поддерживающей или заместительной терапии (напр., метадоном, никотиновой жевательной резинкой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3   в настоящее время воздержание, но на лечении вызывающими отвращение или блокирующими лекарствами (налтрексон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4   в настоящее время употребление наркотика (активная зависимость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5   постоянное употребление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6   эпизодическое употребление (дипсомания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Arial Black"/>
              </a:rPr>
              <a:t>F1х.3   Состояние отмены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Группа симптомов различного сочетания и степени тяжести, проявляющаяся при полном или частичном прекращении приема вещества после неоднократного, обычно длительного и/или в высоких дозах употребления данного вещества. Начало и течение синдрома отмены ограничены во времени и соответствуют типу вещества и дозе, непосредственно предшествующей воздержанию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0    неосложненное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1    с судорогам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Arial Black"/>
              </a:rPr>
              <a:t>F1х.4   Состояние отмены с делирие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0  -  без судоро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1  -  с судорогами.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F1х.5   Психотическое расстройство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Расстройство, возникающее во время или непосредственно после употребления психоактивного вещества, характеризующееся яркими галлюцинациями, ложными узнаваниями, бредом и/или идеями отношения, аффектом (от сильного страха до экстаза). Сознание обычно ясное, хотя возможна некоторая степень его помрачения, не переходящая в тяжелую спутанность. Расстройство обычно проходит в течении 1 месяца, иногда частично, и полностью в течение 6 месяцев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ffff"/>
                </a:solidFill>
                <a:latin typeface="Arial"/>
              </a:rPr>
              <a:t>0    шизофреноподобное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ffff"/>
                </a:solidFill>
                <a:latin typeface="Arial"/>
              </a:rPr>
              <a:t>1    преимущественно бредовое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ffff"/>
                </a:solidFill>
                <a:latin typeface="Arial"/>
              </a:rPr>
              <a:t>2    преимущественно галлюцинаторное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ffff"/>
                </a:solidFill>
                <a:latin typeface="Arial"/>
              </a:rPr>
              <a:t>3    преимущественно полиморфное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ffff"/>
                </a:solidFill>
                <a:latin typeface="Arial"/>
              </a:rPr>
              <a:t>4    преимущественно с депрессивными симптомами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ffff"/>
                </a:solidFill>
                <a:latin typeface="Arial"/>
              </a:rPr>
              <a:t>5    преимущественно с маниакальными симптомами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ffff"/>
                </a:solidFill>
                <a:latin typeface="Arial"/>
              </a:rPr>
              <a:t>6    смешанное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F1х.6   </a:t>
            </a:r>
            <a:r>
              <a:rPr b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Амнестический синдром</a:t>
            </a:r>
            <a:r>
              <a:rPr b="0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F1х.7   </a:t>
            </a:r>
            <a:r>
              <a:rPr b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Резидуальное психотическое расстройство и психотическое расстройство с поздним (отставленным) дебюто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0   Реминисценции эпизодического характера непродолжительные, затрагивающие период предыдущего употребления наркотик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1   Расстройство личности или поведения: отвечает критериям органического расстройсва личности(F07.0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2   Резидуальное аффективное расстройство. Отвечает критериям органического (аффективного) расстройства настроения(F06.3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3   Деменция. Отвечает общим критериям деменции (см. введение к разделу (F00-F09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4   Другое стойкое когнитивное нарушени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5   Поздно возникшее психотическое расстройство с поздним (отставленным ) дебютом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4T13:09:55Z</dcterms:created>
  <dc:creator>Igor</dc:creator>
  <dc:description/>
  <dc:language>en-US</dc:language>
  <cp:lastModifiedBy>Igor</cp:lastModifiedBy>
  <dcterms:modified xsi:type="dcterms:W3CDTF">2010-02-14T13:35:56Z</dcterms:modified>
  <cp:revision>3</cp:revision>
  <dc:subject/>
  <dc:title>F1 ПСИХИЧЕСКИЕ И ПОВЕДЕНЧЕСКИЕ  РАССТРОЙСТВА ВСЛЕДСТВИЕ УПОТРЕБЛЕНИЯ ПСИХОАКТИВНЫХ ВЕЩЕСТВ </dc:title>
</cp:coreProperties>
</file>