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C8E8-3D87-4EA3-A712-AFA24E5D0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F25D-4611-4C8E-88AE-4EFADD3E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EE7C-E40A-4C66-8389-0239D4336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FA62-7D57-4AFE-8951-768A879F4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F51B-4022-4BA9-8BDD-A60BAEEB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E5D6-C93C-454D-BFF1-589B1F69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5238-1E67-4753-816E-AA2E484A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167A-A34D-4788-87EB-15D8FD44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7061-159A-48B0-AB66-73531887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6FC5-6058-41AB-A0D6-3B312794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5BF1-AC26-4C03-919F-C1EA2A01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C899-1004-4031-9377-C18FF8F8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BAD2-EC04-4E1E-8D03-AC1FE56B30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РАССТРОЙСТВА</a:t>
            </a: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 ПАМЯТ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395280" y="404640"/>
            <a:ext cx="8137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По активности человека в организации внимания выделяют три основных вида вним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Непроизволь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Произволь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Постпроизволь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50560" y="476280"/>
            <a:ext cx="87138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Непроизвольное внима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сосредоточение сознания на объекте в силу его особенности как раздражителя. Это внимание ещё называют пассивным или эмоциональным. Оно возникает без волевых усил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бъект 2"/>
          <p:cNvSpPr/>
          <p:nvPr/>
        </p:nvSpPr>
        <p:spPr>
          <a:xfrm>
            <a:off x="250920" y="2708280"/>
            <a:ext cx="83534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собе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 человек предварительно не готовится к восприятию объек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нтенсивность непроизвольного внимания обуславливается особенностями раздражи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продолжительно по времени ( длится до тех пор , пока действуют соответствующие раздражители, и, если его не закреплять, прекращается по окончании их действ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 Всегда обращено в настоящ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24000" y="279360"/>
            <a:ext cx="8424720" cy="25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c00000"/>
                </a:solidFill>
                <a:latin typeface="Arial"/>
              </a:rPr>
              <a:t>2.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оизвольное внимание</a:t>
            </a:r>
            <a:r>
              <a:rPr b="1" lang="ru-RU" sz="35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сознательно регулируемое сосредоточение на объекте, направляемое требованиями деятельности. В психологии его называют активным или  волев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бъект 2"/>
          <p:cNvSpPr/>
          <p:nvPr/>
        </p:nvSpPr>
        <p:spPr>
          <a:xfrm>
            <a:off x="250920" y="3357720"/>
            <a:ext cx="84963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68000" y="2133720"/>
            <a:ext cx="806436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тересы человека, побуждающие его к занятию данным видом деятель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ознание долга и обязанности , требующие как можно лучше выполнять данный вид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684360" y="476280"/>
            <a:ext cx="73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  <a:ea typeface="Arial"/>
              </a:rPr>
              <a:t>ПРИЧИНЫ, ОБУСЛАВЛИВАЮЩИЕ ПРОИЗВОЛЬНОЕ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50920" y="475920"/>
            <a:ext cx="835344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осле произвольное внимание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активное, целенаправленное сосредоточение сознания, не требующее волевых усилий вследствие высокого интереса к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бъект 2"/>
          <p:cNvSpPr/>
          <p:nvPr/>
        </p:nvSpPr>
        <p:spPr>
          <a:xfrm>
            <a:off x="250920" y="4005360"/>
            <a:ext cx="83898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 своим психологическим характеристикам оно имеет черты, сближающие его с непроизвольным вниманием, но у них есть и отлич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сле произвольное внимание возникает на основе интереса, но это не заинтересованность, стимулированная особенностями предмета, а проявление направленности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1"/>
          <p:cNvSpPr/>
          <p:nvPr/>
        </p:nvSpPr>
        <p:spPr>
          <a:xfrm>
            <a:off x="250920" y="2421000"/>
            <a:ext cx="828180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  <a:ea typeface="Arial"/>
              </a:rPr>
              <a:t>-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оявляется в процессе освоения деятельности и увлечённости выполняемой работой;   не требует усилий воли, так как поддерживается интересом к ней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стройства вним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устойчивость внима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медленность переключ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ригидност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достаточная концентр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устойчивость вним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ая характеризуется быстрым переключением фиксации внимания, отвлекаемостью, неспособностью долго сосредоточиться на каком-либо деле. Типична при синдромах расторможенности у детей, при гипоманиях и гебефре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медленность переключ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ригидность), наиболее часто отмечается у органиков и больных эпилепсией.  Пациент не может отвлечься от избранной темы, застревает, вновь и вновь возвращается к н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достаточная концентр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характерна для астенических состояний и утомления, минимальных расстройствах сознания. Внимание носит «плавающий» характер, продолжительная фиксация отсутствует, что выражается в особенностях поведения (рассеянност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ефицит вним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является в сочетании неустойчивости внимания, повышенной отвлекаемости. Всегда имеется органический фон. Как правило, сочетается с двигательным беспокойством, неусидчивостью и входит в гипердинамический синдр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мптоматика наиболее выражена в возрасте от 3 до 6 лет. При отсутствии формирования делинквентности, позитивной семейной обстановке – к подростковому возрасту уменьш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ТРОЙСТВА ПАМЯ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мять - процесс накопления, удержания и воспроизведения информ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деляются следующие расстройств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дисмнезии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ипермнезия, гипомнезия, амнезии, явления вытесн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парамнезии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онфабуляции, псевдореминисценции, эхомнезии, палимпсес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исмнези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ипермнез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характеризуется непроизвольным наплывом воспоминаний прошлого, повышенной способностью к запечатлению, продолжительным удержанием информации  и легкостью ее воспроизведения. Гипермнезии характерны для некоторых пароксизмальных расстройств, интоксикаций психоактивными веществами, гипоманий. Как моносимптом они могут быть у психически здоровых личностей, в частности, такая гипермнезия была у С. Рихтера, который через много лет помнил, как выглядела машина, в которой его много лет назад везли на выступление, и как выглядели руки мальчика, листавшего ему партитуру на выступлен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ипомнез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ослабление памяти с трудностями запоминания, удержания и воспроизведения. Характерно для астенических состояний, депрессии, органических расстройст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смнез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мнез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выпадение фрагментов памяти. Выделяю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 Диссоциативная амнез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характеризующаяся забыванием эмоционально значимых травматических событий, является частным случаем экстремального вытеснения как естественного свойства памяти перемещать воспоминание о травматическом событии в бессознательное. Воспроизведение воспоминания в этом случае возможно в ходе психоаналитического процесса или в гипноз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Ретроградная амнез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выпадение памяти на события, предшествующие травме, чаще – черепно-мозговой трав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 Антероградная амнез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выпадение событий, происходящих после стресса или черепно-мозговой трав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 Фиксационная амнез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забывание текущих событий, в том числе совпадающих с травмой, чаще всего – с событиями текущего дн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исмнез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рогрессирующая амнез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характеризуется последовательным разрушением памяти от настоящего к прошлому, при этом события далекого прошлого помнятся лучше, чем события настоящего или ближайшего прошл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закон Риб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трата памяти от настоящего к прошлому. Таким образом происходит нарушение памяти при большинстве органических атрофических расстройств головного мозга, в частности болезни Альцгеймера и сосудистой демен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Амнестическая афаз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оспроизведение следов памяти может быть нарушено в результате расстройств речи, в этих случаях пациент не может назвать предмет, потому что не помнит, как он называется, но помнит, для чего он нуж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арамнези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процессы искажения воспоми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конфабуляци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– замещение участков выпавшей памяти фантазиями или фантастическими бредовыми построениями (конфабуляторный бред). В этих случаях пациент рассказывает о якобы совершенных им в прошлом подвигах, достижениях, богатстве или преступлениях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Псевдореминисценци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– замещение участков нарушенной памяти фрагментом  из иного участка прошлого, которое реально происходило с пациентом. Указанное воспоминание напоминает путаницу дат. Сочетание фиксационной амнезии, ретро-  антероградной амнезии с конфабуляциями и псевдореминисценциями типично для синдрома Корсаков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Криптомнези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– пациенты приписывают себе воспоминания и сведения, полученные от других лиц,  из литературных источников. Иногда эти явления называют невольным плагиатом.  Характерно для органических расстройств и бред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хомнез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щущение, что происходящее ранее происходило в прошлом, или  виделось в сновидениях и далее повторяется. Обычно таким событиям придается сверхценное значение. Характерно для бреда и органических расстройств, в частности, для бредовой интерпретации прошл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лимпсесты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тковременное выпадение памяти при алкогольном токсическом опьянении с сужением сознания и при патологическом аффекте. Другое определение палимпсеста связано с одновременным воспроизведение двух равнозначных воспоминаний, которые приходятся на один и тот же период времени, при этом пациент колеблется, которое из них является существенным и реальным. Отмечается при расстройствах множественной личности, но также наблюдается в ходе психоаналитического процесса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ниман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- сосредоточенность, избирательная направленность познавательной деятельности на определенный объект, значимый в данный мо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755640" y="26028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  <a:ea typeface="Arial"/>
              </a:rPr>
              <a:t>Значение вним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250920" y="1125360"/>
            <a:ext cx="849636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Биологическое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: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внимание, как и другие высшие психические функции, обеспечивает индивидуальную адаптацию человека и животных к постоянно меняющимся условиям сре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ahoma"/>
                <a:ea typeface="Arial"/>
              </a:rPr>
              <a:t>Социальное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: Без внимания невозможен трудовой процесс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Внимание – необходимое условие обучения. На выраженность внимания, а, следовательно, и на успешность обучения оказывают влияние и общее функциональное состояние ЦНС (утомление, опьянение, сонливость), и тип ВНД.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8:20:43Z</dcterms:created>
  <dc:creator>robik</dc:creator>
  <dc:description/>
  <dc:language>en-US</dc:language>
  <cp:lastModifiedBy>Пользователь Windows</cp:lastModifiedBy>
  <dcterms:modified xsi:type="dcterms:W3CDTF">2018-02-15T16:25:54Z</dcterms:modified>
  <cp:revision>8</cp:revision>
  <dc:subject/>
  <dc:title>РАССТРОЙСТВА ПАМЯТИ</dc:title>
</cp:coreProperties>
</file>