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16.jpeg" ContentType="image/jpeg"/>
  <Override PartName="/ppt/media/wind.wav" ContentType="audio/x-wav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883-4F43-4D7E-BCF0-129F970D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6021-D51B-4343-A8E9-5AF4927E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50F6-1AA6-442C-ADF9-DD7D564F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610-1DB0-47B8-83EB-58EF24B9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1447-1026-483F-828E-4A17881A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C26E-F132-4863-BA66-1AF840C3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0C1B-7595-4041-B5F1-F34C6109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68F3-A144-43A3-9422-55D779D9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B4DD-2160-4464-9472-F8FC3CE9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719C-1471-440F-88D4-1466ACC3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99B4-A289-4B3E-870A-B3C72D23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7C2-F792-4EA5-B2BE-9B043AD1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66B1-066F-49E3-8187-EAFC227A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15DD-874A-42EC-B6B1-E5FA2999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DEEA-5D8B-4202-BADB-28055A76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099A-5A70-4FBD-8E38-3BCB2A3C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D9DD-E185-4DF7-A113-683C2337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9E7-557A-44EB-BA3A-F83B2C98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CB5-91B3-444F-8D88-AFDD825F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9D3-26BE-4E07-AB91-24FC667C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B36-ACDE-46BC-916A-EA0B91D2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F7B-899C-4AAC-A9FE-D3F6F6EE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566-96EB-41C4-9EF0-4C198137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BA2-755B-495E-A852-82D9A168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4b111b"/>
                  </a:gs>
                  <a:gs pos="100000">
                    <a:srgbClr val="ff99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4b111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4b111b"/>
                  </a:gs>
                  <a:gs pos="100000">
                    <a:srgbClr val="ff99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4b111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4b111b"/>
                  </a:gs>
                  <a:gs pos="100000">
                    <a:srgbClr val="ff99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4b111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111b"/>
                    </a:gs>
                    <a:gs pos="100000">
                      <a:srgbClr val="ff99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ff"/>
                    </a:gs>
                    <a:gs pos="100000">
                      <a:srgbClr val="4b111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8ed333"/>
                    </a:gs>
                    <a:gs pos="100000">
                      <a:srgbClr val="ffcc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cc"/>
                    </a:gs>
                    <a:gs pos="100000">
                      <a:srgbClr val="8ed33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8ed33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99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ed3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1E13-9B69-4521-8545-3EA68E4719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160"/>
            <a:ext cx="6895800" cy="5452200"/>
            <a:chOff x="201132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5800"/>
              <a:ext cx="945720" cy="709560"/>
              <a:chOff x="3484080" y="9558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58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4b111b"/>
                  </a:gs>
                  <a:gs pos="100000">
                    <a:srgbClr val="ff99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75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4b111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160"/>
              <a:ext cx="6895800" cy="5452200"/>
              <a:chOff x="201132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160"/>
                <a:ext cx="6890760" cy="5452200"/>
                <a:chOff x="2011320" y="24516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480"/>
                  <a:ext cx="3599280" cy="2650680"/>
                  <a:chOff x="3735720" y="126648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48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b111b"/>
                      </a:gs>
                      <a:gs pos="100000">
                        <a:srgbClr val="ff99cc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ff"/>
                      </a:gs>
                      <a:gs pos="100000">
                        <a:srgbClr val="4b111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160"/>
                  <a:ext cx="6890760" cy="5452200"/>
                  <a:chOff x="2011320" y="24516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3080"/>
                    <a:ext cx="2559960" cy="2740320"/>
                    <a:chOff x="5760360" y="2323080"/>
                    <a:chExt cx="255996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760"/>
                      <a:ext cx="21276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7040"/>
                    <a:ext cx="3040200" cy="2530440"/>
                    <a:chOff x="5787360" y="2147040"/>
                    <a:chExt cx="304020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040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096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2440"/>
                    <a:ext cx="3097800" cy="1994400"/>
                    <a:chOff x="5774760" y="206244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82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04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8120"/>
                    <a:ext cx="2938680" cy="1002240"/>
                    <a:chOff x="5806080" y="1878120"/>
                    <a:chExt cx="293868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3680"/>
                    <a:ext cx="2658960" cy="444960"/>
                    <a:chOff x="5851080" y="181368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932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2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4080"/>
                    <a:chOff x="5788440" y="130464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096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7080" cy="2742840"/>
                    <a:chOff x="2646000" y="2472120"/>
                    <a:chExt cx="2557080" cy="27428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320" y="3169440"/>
                      <a:ext cx="21265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5920"/>
                    <a:ext cx="3039120" cy="2531520"/>
                    <a:chOff x="2084760" y="2365920"/>
                    <a:chExt cx="303912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056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040"/>
                    <a:ext cx="3096360" cy="1991880"/>
                    <a:chOff x="2040840" y="2282040"/>
                    <a:chExt cx="309636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780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7000"/>
                    <a:ext cx="3133800" cy="1609920"/>
                    <a:chOff x="2011320" y="2187000"/>
                    <a:chExt cx="313380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624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0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6280"/>
                    <a:ext cx="2937240" cy="1001160"/>
                    <a:chOff x="2167560" y="209628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2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760"/>
                    <a:ext cx="2658600" cy="447120"/>
                    <a:chOff x="2403720" y="20307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78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0280"/>
                    <a:ext cx="2364120" cy="787320"/>
                    <a:chOff x="2760480" y="152028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7320"/>
                    <a:ext cx="2323080" cy="1081440"/>
                    <a:chOff x="2887920" y="1237320"/>
                    <a:chExt cx="2323080" cy="10814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3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1240"/>
                      <a:ext cx="8161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9080"/>
                    <a:ext cx="2169720" cy="1508400"/>
                    <a:chOff x="3161520" y="82908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09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1680"/>
                    <a:chOff x="3437640" y="434160"/>
                    <a:chExt cx="198720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0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0480"/>
                    <a:ext cx="1461600" cy="1890000"/>
                    <a:chOff x="4026960" y="330480"/>
                    <a:chExt cx="1461600" cy="18900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216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240"/>
                    <a:chOff x="4448160" y="24516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48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cc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960"/>
                    <a:ext cx="2318760" cy="1113480"/>
                    <a:chOff x="5661720" y="948960"/>
                    <a:chExt cx="2318760" cy="11134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720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3880"/>
                    <a:ext cx="2201760" cy="1451880"/>
                    <a:chOff x="5529600" y="62388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77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856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484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8ed333"/>
                      </a:gs>
                      <a:gs pos="100000">
                        <a:srgbClr val="ffcc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6400"/>
                    <a:ext cx="68112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cc"/>
                      </a:gs>
                      <a:gs pos="100000">
                        <a:srgbClr val="8ed33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200"/>
                    <a:ext cx="1194120" cy="1900440"/>
                    <a:chOff x="5355720" y="26820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5880"/>
                      <a:ext cx="13100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600" y="384840"/>
                    <a:ext cx="1890360" cy="1796040"/>
                    <a:chOff x="5349600" y="384840"/>
                    <a:chExt cx="189036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160" y="1384200"/>
                      <a:ext cx="14259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140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6040"/>
                    <a:chOff x="5459040" y="290520"/>
                    <a:chExt cx="425160" cy="17960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3960"/>
                      <a:ext cx="117648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280"/>
                    <a:ext cx="2193480" cy="3003480"/>
                    <a:chOff x="3063240" y="2528280"/>
                    <a:chExt cx="21934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480" y="3313080"/>
                      <a:ext cx="21279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240"/>
                    <a:ext cx="1480320" cy="2999880"/>
                    <a:chOff x="3791520" y="2649240"/>
                    <a:chExt cx="14803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720" y="3439800"/>
                      <a:ext cx="196740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88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699280"/>
                    <a:ext cx="875520" cy="2928240"/>
                    <a:chOff x="4507920" y="2699280"/>
                    <a:chExt cx="875520" cy="29282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5880"/>
                      <a:ext cx="18885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ccff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68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1840"/>
                    <a:ext cx="2280600" cy="2952720"/>
                    <a:chOff x="5677920" y="24818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49360"/>
                      <a:ext cx="21265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4520"/>
                    <a:ext cx="1756440" cy="3028320"/>
                    <a:chOff x="5646960" y="2594520"/>
                    <a:chExt cx="1756440" cy="30283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6240"/>
                      <a:ext cx="2032560" cy="368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8880"/>
                      <a:ext cx="108900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080"/>
                    <a:ext cx="1228680" cy="2987280"/>
                    <a:chOff x="5576400" y="2710080"/>
                    <a:chExt cx="1228680" cy="29872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1680"/>
                      <a:ext cx="19724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124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1360"/>
                    <a:chOff x="5521320" y="2836800"/>
                    <a:chExt cx="696600" cy="27813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960"/>
                      <a:ext cx="1812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6120"/>
                    <a:ext cx="667440" cy="2716920"/>
                    <a:chOff x="4960800" y="2886120"/>
                    <a:chExt cx="66744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5280" y="366336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8ed33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28760"/>
                      <a:ext cx="95076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8ed333"/>
                        </a:gs>
                        <a:gs pos="100000">
                          <a:srgbClr val="ff99cc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0066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0400"/>
                <a:ext cx="6732720" cy="4523040"/>
                <a:chOff x="2174400" y="680400"/>
                <a:chExt cx="673272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0400"/>
                  <a:ext cx="6732720" cy="4523040"/>
                  <a:chOff x="2174400" y="680400"/>
                  <a:chExt cx="673272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5000"/>
                    <a:ext cx="3166560" cy="25250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080"/>
                    <a:ext cx="248688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8ed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9600"/>
                    <a:ext cx="1758240" cy="29358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8ed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040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0680" cy="2842920"/>
                  </a:xfrm>
                  <a:prstGeom prst="pie">
                    <a:avLst/>
                  </a:prstGeom>
                  <a:noFill/>
                  <a:ln w="9360">
                    <a:solidFill>
                      <a:srgbClr val="ff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40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8ed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660066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660066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5760"/>
              <a:ext cx="6411960" cy="4709160"/>
              <a:chOff x="2343960" y="72576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828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308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552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176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396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028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0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6064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768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156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120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328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576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8ed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75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ed333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78B8-D94B-48CB-946A-19448AFAEDC4}" type="slidenum"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Тема: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«Многогранники в архитектуре»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696000" y="2286000"/>
            <a:ext cx="244800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                                           </a:t>
            </a:r>
            <a:endParaRPr b="0" lang="en-US" sz="1400" spc="-1" strike="noStrike">
              <a:solidFill>
                <a:srgbClr val="660066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                                          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4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1" lang="ru-RU" sz="10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0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000" spc="-1" strike="noStrike">
                <a:solidFill>
                  <a:srgbClr val="800000"/>
                </a:solidFill>
                <a:latin typeface="Arial Black"/>
              </a:rPr>
              <a:t>	</a:t>
            </a:r>
            <a:r>
              <a:rPr b="1" lang="ru-RU" sz="1000" spc="-1" strike="noStrike">
                <a:solidFill>
                  <a:srgbClr val="800000"/>
                </a:solidFill>
                <a:latin typeface="Arial Black"/>
              </a:rPr>
              <a:t>	</a:t>
            </a:r>
            <a:endParaRPr b="0" lang="en-US" sz="10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2556000" y="5950080"/>
            <a:ext cx="446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3419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60066"/>
                </a:solidFill>
                <a:latin typeface="Arial Black"/>
              </a:rPr>
              <a:t>	</a:t>
            </a: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Спасская башня — главная башня Московского Кремля (проездная). Построена итальянским архитектором Антонио Солари в 1491 году - соединение прямых призм и пирамид.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79" name="WordArt 4"/>
          <p:cNvSpPr txBox="1"/>
          <p:nvPr/>
        </p:nvSpPr>
        <p:spPr>
          <a:xfrm>
            <a:off x="3500280" y="214200"/>
            <a:ext cx="535788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4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9999ff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9999ff"/>
                  </a:gs>
                </a:gsLst>
                <a:lin ang="27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1"/>
          <a:stretch/>
        </p:blipFill>
        <p:spPr>
          <a:xfrm>
            <a:off x="-4572000" y="2535120"/>
            <a:ext cx="1952640" cy="2400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"/>
          <p:cNvPicPr/>
          <p:nvPr/>
        </p:nvPicPr>
        <p:blipFill>
          <a:blip r:embed="rId2"/>
          <a:stretch/>
        </p:blipFill>
        <p:spPr>
          <a:xfrm>
            <a:off x="3429000" y="0"/>
            <a:ext cx="61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6"/>
          <p:cNvSpPr/>
          <p:nvPr/>
        </p:nvSpPr>
        <p:spPr>
          <a:xfrm>
            <a:off x="468360" y="404640"/>
            <a:ext cx="26748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Дубайская башня – небоскрёб -соединение прямых призм.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Высота 160 этажной башни – более 700 м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  <p:pic>
        <p:nvPicPr>
          <p:cNvPr id="383" name="Picture 7" descr="понлшг"/>
          <p:cNvPicPr/>
          <p:nvPr/>
        </p:nvPicPr>
        <p:blipFill>
          <a:blip r:embed="rId1"/>
          <a:stretch/>
        </p:blipFill>
        <p:spPr>
          <a:xfrm>
            <a:off x="3857760" y="101520"/>
            <a:ext cx="5286240" cy="6756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385" name="WordArt 6"/>
          <p:cNvSpPr txBox="1"/>
          <p:nvPr/>
        </p:nvSpPr>
        <p:spPr>
          <a:xfrm>
            <a:off x="179280" y="189000"/>
            <a:ext cx="56181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Удивительная крыш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6012000" y="189000"/>
            <a:ext cx="29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- состоит из треугольнных пирамид</a:t>
            </a:r>
            <a:endParaRPr b="0" lang="en-US" sz="20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285840" y="333360"/>
            <a:ext cx="3643200" cy="49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 Black"/>
              </a:rPr>
              <a:t>Так выглядит Рязанский кремль с высоты птичьего полета-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 Black"/>
              </a:rPr>
              <a:t>форма зданий представляет собой соединение прямоугольных параллелепипедов, прямых треугольных призм и пирамид 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407196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6"/>
          <p:cNvSpPr/>
          <p:nvPr/>
        </p:nvSpPr>
        <p:spPr>
          <a:xfrm>
            <a:off x="214200" y="0"/>
            <a:ext cx="38214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амый оригинальный По архитектуре  Нью – Йоркский небоскрёб –Утюг. 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строен в 1903 году на треугольном островке, в месте пересечения трех улиц. 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Является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треугольной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призмой.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WordArt 4"/>
          <p:cNvSpPr txBox="1"/>
          <p:nvPr/>
        </p:nvSpPr>
        <p:spPr>
          <a:xfrm>
            <a:off x="2124000" y="0"/>
            <a:ext cx="3946680" cy="22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5750"/>
                <a:gd name="adj2" fmla="val 2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Вывод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95280" y="256536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cc00"/>
                </a:solidFill>
                <a:latin typeface="Arial Black"/>
              </a:rPr>
              <a:t>Многие архитектурные сооружения имеют форму выпуклых и невыпуклых многогранников</a:t>
            </a: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571680"/>
            <a:ext cx="8785080" cy="57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 Black"/>
              </a:rPr>
              <a:t>                   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Arial Black"/>
              </a:rPr>
              <a:t>                     </a:t>
            </a:r>
            <a:r>
              <a:rPr b="1" i="1" lang="ru-RU" sz="4800" spc="-1" strike="noStrike">
                <a:solidFill>
                  <a:srgbClr val="0000ff"/>
                </a:solidFill>
                <a:latin typeface="Arial Black"/>
              </a:rPr>
              <a:t>Цель:</a:t>
            </a:r>
            <a:r>
              <a:rPr b="1" i="1" lang="ru-RU" sz="4800" spc="-1" strike="noStrike">
                <a:solidFill>
                  <a:srgbClr val="660066"/>
                </a:solidFill>
                <a:latin typeface="Arial Black"/>
              </a:rPr>
              <a:t> </a:t>
            </a:r>
            <a:br>
              <a:rPr sz="4800"/>
            </a:br>
            <a:r>
              <a:rPr b="1" i="1" lang="ru-RU" sz="4000" spc="-1" strike="noStrike">
                <a:solidFill>
                  <a:srgbClr val="660066"/>
                </a:solidFill>
                <a:latin typeface="Arial Black"/>
              </a:rPr>
              <a:t> Установление соответствия           формы архитектурных сооружений видам многогранников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1071720" y="500040"/>
            <a:ext cx="664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Предмет: геометрия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 Black"/>
              </a:rPr>
              <a:t>Учебная тема :многогранники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5440" y="5500440"/>
            <a:ext cx="817236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-252720" y="1773000"/>
            <a:ext cx="4608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660066"/>
                </a:solidFill>
                <a:latin typeface="Arial Black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геометрическое тело, ограниченное со всех сторон плоскими многоугольниками, называемыми гранями. Стороны граней называются ребрами многогранника, а концы ребер — вершинами многогранника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57" name="WordArt 4"/>
          <p:cNvSpPr txBox="1"/>
          <p:nvPr/>
        </p:nvSpPr>
        <p:spPr>
          <a:xfrm>
            <a:off x="539640" y="549360"/>
            <a:ext cx="490392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ногогранни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4"/>
          <a:stretch/>
        </p:blipFill>
        <p:spPr>
          <a:xfrm>
            <a:off x="4140360" y="1700280"/>
            <a:ext cx="5003640" cy="5095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5"/>
          <p:cNvSpPr/>
          <p:nvPr/>
        </p:nvSpPr>
        <p:spPr>
          <a:xfrm>
            <a:off x="0" y="333360"/>
            <a:ext cx="5003640" cy="68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зма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(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греч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.prisma, 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отпиленное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),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многогранник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,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две грани которого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(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основания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) —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равные многоугольники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,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расположенные в параллельных плоскостях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,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 а другие грани 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(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боковые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)—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параллелограммы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.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По числу боковых граней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призмы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разделяются на  трёхгранные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,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четырёхгранные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 </a:t>
            </a:r>
            <a:r>
              <a:rPr b="0" lang="ru-RU" sz="2400" spc="-1" strike="noStrike">
                <a:solidFill>
                  <a:srgbClr val="040d62"/>
                </a:solidFill>
                <a:latin typeface="Arial"/>
              </a:rPr>
              <a:t> и т. д</a:t>
            </a:r>
            <a:r>
              <a:rPr b="0" lang="ru-RU" sz="2400" spc="-1" strike="noStrike">
                <a:solidFill>
                  <a:srgbClr val="040d62"/>
                </a:solidFill>
                <a:latin typeface="PragmaticaKMM"/>
              </a:rPr>
              <a:t>.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 Black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4032360" cy="619308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6429240" y="28576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 Black"/>
              </a:rPr>
              <a:t>а)</a:t>
            </a: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7786800" y="28576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 Black"/>
              </a:rPr>
              <a:t>б)</a:t>
            </a: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6429240" y="42148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 Black"/>
              </a:rPr>
              <a:t>В)</a:t>
            </a: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8715240" y="44290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 Black"/>
              </a:rPr>
              <a:t>г)</a:t>
            </a: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5" name="Прямоугольник 10"/>
          <p:cNvSpPr/>
          <p:nvPr/>
        </p:nvSpPr>
        <p:spPr>
          <a:xfrm>
            <a:off x="5000760" y="4786200"/>
            <a:ext cx="4000320" cy="571680"/>
          </a:xfrm>
          <a:prstGeom prst="rect">
            <a:avLst/>
          </a:prstGeom>
          <a:solidFill>
            <a:srgbClr val="ff8b17"/>
          </a:solidFill>
          <a:ln w="2556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9900"/>
                </a:solidFill>
                <a:latin typeface="Arial Black"/>
              </a:rPr>
              <a:t>- это  многогранник, основание которого многоугольник, а остальные грани — треугольники, имеющие общую вершину . По числу углов основания различают пирамиды треугольные, четырёхугольные и т. д.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7" name="WordArt 4"/>
          <p:cNvSpPr txBox="1"/>
          <p:nvPr/>
        </p:nvSpPr>
        <p:spPr>
          <a:xfrm>
            <a:off x="395280" y="189000"/>
            <a:ext cx="583236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ирамид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4"/>
          <a:stretch/>
        </p:blipFill>
        <p:spPr>
          <a:xfrm>
            <a:off x="1835280" y="3573360"/>
            <a:ext cx="4968720" cy="3008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4"/>
          <p:cNvSpPr/>
          <p:nvPr/>
        </p:nvSpPr>
        <p:spPr>
          <a:xfrm>
            <a:off x="214200" y="857160"/>
            <a:ext cx="334800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Усечённая пирамида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- геометрическое тело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сечённое от пирамиды плоскостью, параллельной основанию</a:t>
            </a:r>
            <a:r>
              <a:rPr b="1" lang="ru-RU" sz="2800" spc="-1" strike="noStrike">
                <a:solidFill>
                  <a:srgbClr val="ff0000"/>
                </a:solidFill>
                <a:latin typeface="PragmaticaKMM"/>
              </a:rPr>
              <a:t>  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580000" cy="4613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357120" y="0"/>
            <a:ext cx="5857920" cy="57610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7"/>
          <p:cNvSpPr/>
          <p:nvPr/>
        </p:nvSpPr>
        <p:spPr>
          <a:xfrm>
            <a:off x="108000" y="5877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 Black"/>
              </a:rPr>
              <a:t>Ингушетия. Боевая башня Магой – Джил. </a:t>
            </a:r>
            <a:r>
              <a:rPr b="1" lang="en-US" sz="2400" spc="-1" strike="noStrike">
                <a:solidFill>
                  <a:srgbClr val="660066"/>
                </a:solidFill>
                <a:latin typeface="Arial Black"/>
              </a:rPr>
              <a:t>XIII</a:t>
            </a:r>
            <a:r>
              <a:rPr b="1" lang="ru-RU" sz="2400" spc="-1" strike="noStrike">
                <a:solidFill>
                  <a:srgbClr val="660066"/>
                </a:solidFill>
                <a:latin typeface="Arial Black"/>
              </a:rPr>
              <a:t> век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- усечённая пирамида.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324000" y="0"/>
            <a:ext cx="5040000" cy="66690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6"/>
          <p:cNvSpPr/>
          <p:nvPr/>
        </p:nvSpPr>
        <p:spPr>
          <a:xfrm>
            <a:off x="5500800" y="1125360"/>
            <a:ext cx="3390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Нью – Йоркский небоскрёб – это соединение прямых призм и пирамид.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66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5435640" y="404640"/>
            <a:ext cx="3565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 Black"/>
              </a:rPr>
              <a:t>	</a:t>
            </a: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Самая большая из трех — пирамида Хеопса (зодчий Хемиун, 27 в. до н. э.). Ее высота была изначально 147м, а длина стороны основания — 232м.  Для её сооружения потребовалось 2 млн. 300 тыс. огромных каменных блоков, средний вес которых 2,5т. </a:t>
            </a:r>
            <a:endParaRPr b="0" lang="en-US" sz="2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76" name="WordArt 4"/>
          <p:cNvSpPr txBox="1"/>
          <p:nvPr/>
        </p:nvSpPr>
        <p:spPr>
          <a:xfrm>
            <a:off x="179280" y="0"/>
            <a:ext cx="51847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5560">
                  <a:solidFill>
                    <a:srgbClr val="008000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3200" spc="1" strike="noStrike">
                <a:ln w="25560">
                  <a:solidFill>
                    <a:srgbClr val="0080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Египетские пирамиды</a:t>
            </a:r>
            <a:endParaRPr b="0" lang="en-US" sz="3200" spc="1" strike="noStrike">
              <a:ln w="25560">
                <a:solidFill>
                  <a:srgbClr val="0080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4"/>
          <a:stretch/>
        </p:blipFill>
        <p:spPr>
          <a:xfrm>
            <a:off x="0" y="1700280"/>
            <a:ext cx="572436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06:21:48Z</dcterms:created>
  <dc:creator>Маша</dc:creator>
  <dc:description/>
  <dc:language>en-US</dc:language>
  <cp:lastModifiedBy>User</cp:lastModifiedBy>
  <dcterms:modified xsi:type="dcterms:W3CDTF">2019-02-04T18:20:22Z</dcterms:modified>
  <cp:revision>19</cp:revision>
  <dc:subject/>
  <dc:title>Слайд 1</dc:title>
</cp:coreProperties>
</file>